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B7F3B-A519-4ED3-A3A7-4910BC9A9C7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ACD93-8339-4302-B426-EBD6C2716DB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6D466-09EE-4B76-9FBD-81A502DBD0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20F23-0A0F-4BC2-84A7-E3CF21AAE76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1067D-15C8-4FF6-9577-30D14DB346D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0CE27-8522-42E3-81E6-38812C4D2AA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89C73-4764-400F-900F-5BD2B888F73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57FC1-3802-41D6-8B25-56649D0D9CA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F6554-B319-4C1B-9EA6-4863FEAF521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4CE78-4A0C-4F5A-8B0F-B720D479945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E78B2-E103-4E12-B28E-F2BEF7945E2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0301E-282B-4842-86FF-7057A7DDD47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48129-3645-4194-87E8-6CDD6472790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06C68-757B-4CA3-9A51-648E2184DF6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7C944-0F94-4118-AC8C-6EF6E3AAD92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72DC6-3A79-418B-89E9-6AD4F8D53CA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F15D0-B0B9-4A81-B86B-DCECCCF6C4A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A8BA-D2DD-46EE-8727-228BF8FC8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E177-FE47-48A1-8D38-5C969BCB5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03967-F1D3-453B-AAA0-CB01A2BBE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79A72-9977-42C7-BE87-C6F45B5347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9A6B-C50B-4B74-A02B-31E314B43C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BE6B-6578-49DA-B087-8A878C18F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7A40-D5A5-4FCB-AD02-68EEB55F9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C089-2900-4884-89D7-663C5DAC7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46D2F-3BE2-49B8-B537-9B80B41DC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F271-DA2B-48B6-9BEE-CB329144D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37B6-01A1-4551-84A5-F43CC1416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EDFD-275C-43FF-94FB-8AA98D1B9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59C956-1B3D-477E-BE69-72DC53D23325}" type="slidenum"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ЛЕДОВСКОГО СЕЛЬСОВЕТА СОВЕТСКОГО РАЙОНА КУРСКОЙ ОБЛАСТИ НА 20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1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Г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проекту решения Собрания  депутатов  Ледовского се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б исполнении бюджет</a:t>
            </a:r>
            <a:r>
              <a:rPr b="0" lang="ru-RU" sz="1200" spc="-1" strike="noStrike">
                <a:solidFill>
                  <a:srgbClr val="0066ff"/>
                </a:solidFill>
                <a:latin typeface="Microsoft YaHei"/>
              </a:rPr>
              <a:t>а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Ледовского сельсовета Советского района  Курской области за 2021 год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85840" y="2000160"/>
          <a:ext cx="8753400" cy="2702160"/>
        </p:xfrm>
        <a:graphic>
          <a:graphicData uri="http://schemas.openxmlformats.org/drawingml/2006/table">
            <a:tbl>
              <a:tblPr/>
              <a:tblGrid>
                <a:gridCol w="6432480"/>
                <a:gridCol w="1285920"/>
                <a:gridCol w="1035000"/>
              </a:tblGrid>
              <a:tr h="839880"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1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348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8120">
                <a:tc>
                  <a:txBody>
                    <a:bodyPr lIns="36000" rIns="36000" tIns="66240" bIns="36000" anchor="t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Выплата пенсий за выслугу лет и доплат к пенсиям муниципальных служащих Ледовского сельсовета Советского район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2,1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1480">
                <a:tc gridSpan="2"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2,1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бюджета Ледовского сельсовета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21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14200" y="1143000"/>
          <a:ext cx="8288280" cy="5143680"/>
        </p:xfrm>
        <a:graphic>
          <a:graphicData uri="http://schemas.openxmlformats.org/drawingml/2006/table">
            <a:tbl>
              <a:tblPr/>
              <a:tblGrid>
                <a:gridCol w="5418360"/>
                <a:gridCol w="1650960"/>
                <a:gridCol w="1218960"/>
              </a:tblGrid>
              <a:tr h="635040"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8460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4,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608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Ледов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6,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52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68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Расходы бюджета Ледовского сельсовета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 Советского района Курской области на 2021 год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571680" y="785880"/>
            <a:ext cx="8269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 2436,9 тыс. 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9640" y="1773360"/>
          <a:ext cx="8232840" cy="2327040"/>
        </p:xfrm>
        <a:graphic>
          <a:graphicData uri="http://schemas.openxmlformats.org/drawingml/2006/table">
            <a:tbl>
              <a:tblPr/>
              <a:tblGrid>
                <a:gridCol w="6964560"/>
                <a:gridCol w="1268280"/>
              </a:tblGrid>
              <a:tr h="5554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2884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Муниципальная программа  «Развитие культуры муниципального образования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2,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Муниципальная программа «Социальная поддержка граждан  в м.о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,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. 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Благоустройство территории муниципального образования «Ледовский сельсовет»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5"/>
          <p:cNvSpPr/>
          <p:nvPr/>
        </p:nvSpPr>
        <p:spPr>
          <a:xfrm>
            <a:off x="896760" y="6382440"/>
            <a:ext cx="783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умерация муниципальных программ  указана в соответствии с присвоенными им кодами для отражения в бюджете Ледовского сельсовета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ветского района  Курской област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42960" y="785880"/>
            <a:ext cx="8197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2436,9 тыс.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0040" y="2071800"/>
          <a:ext cx="8232840" cy="4002120"/>
        </p:xfrm>
        <a:graphic>
          <a:graphicData uri="http://schemas.openxmlformats.org/drawingml/2006/table">
            <a:tbl>
              <a:tblPr/>
              <a:tblGrid>
                <a:gridCol w="6639120"/>
                <a:gridCol w="1593720"/>
              </a:tblGrid>
              <a:tr h="56520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6348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13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Муниципальная программа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в муниципальном образовани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Ледовский сельсове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муниципальном образовании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Развитие и укрепление материально-технической базы муниципального образования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,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Ледовского сельсовета Советского района 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14720" y="3786120"/>
          <a:ext cx="4143240" cy="2286000"/>
        </p:xfrm>
        <a:graphic>
          <a:graphicData uri="http://schemas.openxmlformats.org/drawingml/2006/table">
            <a:tbl>
              <a:tblPr/>
              <a:tblGrid>
                <a:gridCol w="414324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29"/>
          <p:cNvSpPr/>
          <p:nvPr/>
        </p:nvSpPr>
        <p:spPr>
          <a:xfrm>
            <a:off x="571680" y="1969920"/>
            <a:ext cx="4714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Microsoft YaHei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Microsoft YaHei"/>
              </a:rPr>
              <a:t> 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–</a:t>
            </a:r>
            <a:r>
              <a:rPr b="0" i="1" lang="ru-RU" sz="1300" spc="-1" strike="noStrike">
                <a:solidFill>
                  <a:srgbClr val="800080"/>
                </a:solidFill>
                <a:latin typeface="Microsoft YaHei"/>
              </a:rPr>
              <a:t>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Ледов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Ледовского сельсовета Советского района Курской области на 2021 год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И.Смирнова– начальник отдела бухгалтерского учета и отчетности Ледовс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Ледов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306646, Курская область, Советский район с. Ледовское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Администрация Ледовс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тел.: (47158) 3-35-30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Факс: (47158) 3-35-1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Calibri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Calibri"/>
              </a:rPr>
              <a:t>ledovskoi306646@mail.ru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Основные характеристики  бюджета Ледовского сельсовета Советского района Курской области на 20</a:t>
            </a:r>
            <a:r>
              <a:rPr b="0" lang="en-US" sz="2600" spc="-1" strike="noStrike">
                <a:solidFill>
                  <a:srgbClr val="cc0000"/>
                </a:solidFill>
                <a:latin typeface="Microsoft YaHei"/>
              </a:rPr>
              <a:t>21</a:t>
            </a: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 год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28800" y="2060640"/>
          <a:ext cx="7073640" cy="3827520"/>
        </p:xfrm>
        <a:graphic>
          <a:graphicData uri="http://schemas.openxmlformats.org/drawingml/2006/table">
            <a:tbl>
              <a:tblPr/>
              <a:tblGrid>
                <a:gridCol w="4838760"/>
                <a:gridCol w="223488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892,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104,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1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212,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труктура расходов бюджета Ледовс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по разделам функциональной классификации на 2021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71760" y="1071720"/>
          <a:ext cx="6715080" cy="5151240"/>
        </p:xfrm>
        <a:graphic>
          <a:graphicData uri="http://schemas.openxmlformats.org/drawingml/2006/table">
            <a:tbl>
              <a:tblPr/>
              <a:tblGrid>
                <a:gridCol w="647640"/>
                <a:gridCol w="3097080"/>
                <a:gridCol w="297036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552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4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39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6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56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46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2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,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15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Microsoft YaHei"/>
                <a:ea typeface="Times New Roman"/>
              </a:rPr>
              <a:t>Расходы бюджета Ледовского сельсовета Советского района Курской области на культуру в 2021 году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–1262,2</a:t>
            </a:r>
            <a:r>
              <a:rPr b="0" lang="ru-RU" sz="2000" spc="-1" strike="noStrike">
                <a:solidFill>
                  <a:srgbClr val="cc0000"/>
                </a:solidFill>
                <a:latin typeface="Microsoft YaHei"/>
                <a:ea typeface="Times New Roman"/>
              </a:rPr>
              <a:t> тыс. руб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одержимое 6" descr=""/>
          <p:cNvPicPr/>
          <p:nvPr/>
        </p:nvPicPr>
        <p:blipFill>
          <a:blip r:embed="rId1"/>
          <a:stretch/>
        </p:blipFill>
        <p:spPr>
          <a:xfrm>
            <a:off x="534960" y="1211400"/>
            <a:ext cx="83232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>ledovskoi306646@mail.ru</cp:lastModifiedBy>
  <dcterms:modified xsi:type="dcterms:W3CDTF">2023-02-10T08:40:45Z</dcterms:modified>
  <cp:revision>465</cp:revision>
  <dc:subject/>
  <dc:title>Слайд 1</dc:title>
</cp:coreProperties>
</file>