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915480" y="744480"/>
            <a:ext cx="4962600" cy="37195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3849480" y="9429480"/>
            <a:ext cx="2943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DE98A0-81EE-4892-A7DA-F00B2E28FC8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F4A55B-EF84-4824-B61B-CE534231F1A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1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E7C461-6752-4242-B4B5-1EC1418D99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9A0671-D748-4DD0-BC1F-CFD48A45AD3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21C007-80C7-4F9A-8828-C0B5BCE54AE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54BEFE-4D98-4533-8E9A-AF111894F1B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443481-8B42-48B2-91AD-8E6867CF01C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54BEF3-AA3F-4B11-9EEB-7CBD11F55EA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BFF395-D8BB-4908-8BAC-7A498B4A239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96B856-F28F-46C1-B4FD-949E0B5D1AA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54D723-C247-41B7-80AC-BA3470F7ED5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8757C7-346B-4F94-9C69-38B428E653F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A6238C-A9C3-4347-B934-38EB0DEDD8B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185DD3-ED8B-4C7D-BA70-C611F715B5C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29CE67-4855-43F4-A706-0801A912329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956F42-A859-4C16-AFC7-BF022519098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E875A0-50C9-4EB1-86F7-4497C519C7E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23C21-207B-46CB-AC6F-D23EEF8828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480F7-94CB-40C1-A4A9-A9A90A8029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61824-7308-4B32-907D-0936C01CDC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56125-8F4F-43C4-BAF7-77ED68098D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DBC53-39F6-40AA-A211-8A3D815262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AEF29-94B3-4585-BA7C-23795008FB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8B82A-D8E6-4C5F-98CB-D1F08A2865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834A2-EF2C-42FB-AD32-3D27891574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7198E-DAFF-4942-AAD9-D96B061D94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411D8-AFD4-435C-ACD1-825FF09AB6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09A60-E99C-4160-B517-A63FCE4DFB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25704-84CC-4843-B61A-5BA4693BBC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3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48AA755-989C-49EF-A119-D8D86DE9E498}" type="slidenum"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e0e3"/>
            </a:gs>
            <a:gs pos="50000">
              <a:srgbClr val="ccff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714240" y="785880"/>
            <a:ext cx="771552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БЮДЖЕТ ДЛЯ ГРАЖДАН ЛЕДОВСКОГО СЕЛЬСОВЕТА СОВЕТСКОГО РАЙОНА КУРСКОЙ ОБЛАСТИ НА 20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21</a:t>
            </a: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 ГОД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395280" y="6021360"/>
            <a:ext cx="8353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К проекту решения Собрания  депутатов  Ледовского сеельсовета Советского района Курской области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«Об исполнении бюджет</a:t>
            </a:r>
            <a:r>
              <a:rPr b="0" lang="ru-RU" sz="1200" spc="-1" strike="noStrike">
                <a:solidFill>
                  <a:srgbClr val="0066ff"/>
                </a:solidFill>
                <a:latin typeface="Microsoft YaHei"/>
              </a:rPr>
              <a:t>а  </a:t>
            </a: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Ледовского сельсовета Советского района  Курской области за 2021 год»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1"/>
          <p:cNvSpPr/>
          <p:nvPr/>
        </p:nvSpPr>
        <p:spPr>
          <a:xfrm>
            <a:off x="571680" y="500040"/>
            <a:ext cx="81262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Times New Roman"/>
              </a:rPr>
              <a:t>Меры социальной поддержки, оказываемые отдельным категориям граждан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85840" y="2000160"/>
          <a:ext cx="8753400" cy="2702160"/>
        </p:xfrm>
        <a:graphic>
          <a:graphicData uri="http://schemas.openxmlformats.org/drawingml/2006/table">
            <a:tbl>
              <a:tblPr/>
              <a:tblGrid>
                <a:gridCol w="6432480"/>
                <a:gridCol w="1285920"/>
                <a:gridCol w="1035000"/>
              </a:tblGrid>
              <a:tr h="839880">
                <a:tc>
                  <a:txBody>
                    <a:bodyPr lIns="54000" rIns="54000" tIns="80640" bIns="54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меры социальной поддержки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505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54000" rIns="54000" tIns="80640" bIns="54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ате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505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54000" rIns="54000" tIns="80640" bIns="54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2021 год,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 руб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505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83480">
                <a:tc>
                  <a:txBody>
                    <a:bodyPr lIns="36000" rIns="36000" tIns="8136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8136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8136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78120">
                <a:tc>
                  <a:txBody>
                    <a:bodyPr lIns="36000" rIns="36000" tIns="66240" bIns="36000" anchor="t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Выплата пенсий за выслугу лет и доплат к пенсиям муниципальных служащих Ледовского сельсовета Советского района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Курской области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66240" bIns="36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66240" bIns="36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2,1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21480">
                <a:tc gridSpan="2">
                  <a:txBody>
                    <a:bodyPr lIns="36000" rIns="36000" tIns="66240" bIns="36000" anchor="ctr">
                      <a:noAutofit/>
                    </a:bodyPr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: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66240" bIns="36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2,1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</a:tbl>
          </a:graphicData>
        </a:graphic>
      </p:graphicFrame>
    </p:spTree>
  </p:cSld>
  <p:transition advTm="5000">
    <p:wheel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50920" y="0"/>
            <a:ext cx="87138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«Программная» структура расходов </a:t>
            </a:r>
            <a:br>
              <a:rPr sz="2000"/>
            </a:b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 бюджета Ледовского сельсовета</a:t>
            </a:r>
            <a:br>
              <a:rPr sz="2000"/>
            </a:b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 Советского района Курской области на 2021 год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14200" y="1143000"/>
          <a:ext cx="8288280" cy="5143680"/>
        </p:xfrm>
        <a:graphic>
          <a:graphicData uri="http://schemas.openxmlformats.org/drawingml/2006/table">
            <a:tbl>
              <a:tblPr/>
              <a:tblGrid>
                <a:gridCol w="5418360"/>
                <a:gridCol w="1650960"/>
                <a:gridCol w="1218960"/>
              </a:tblGrid>
              <a:tr h="635040">
                <a:tc>
                  <a:txBody>
                    <a:bodyPr lIns="90000" rIns="90000" tIns="84600" bIns="46800" anchor="b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84600" bIns="46800" anchor="b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9600">
                <a:tc rowSpan="2">
                  <a:txBody>
                    <a:bodyPr lIns="90000" rIns="90000" tIns="84600" bIns="468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gridSpan="2">
                  <a:txBody>
                    <a:bodyPr lIns="90000" rIns="90000" tIns="77040" bIns="468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1 год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тыс. рублей)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898560">
                <a:tc>
                  <a:txBody>
                    <a:bodyPr lIns="36000" rIns="36000" tIns="66240" bIns="36000" anchor="b">
                      <a:noAutofit/>
                    </a:bodyPr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а, всего: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04,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57200">
                <a:tc>
                  <a:txBody>
                    <a:bodyPr lIns="36000" rIns="36000" tIns="60840" bIns="360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898560">
                <a:tc>
                  <a:txBody>
                    <a:bodyPr lIns="36000" rIns="36000" tIns="66240" bIns="360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на реализацию муниципальных программ Ледовского сельсовета Советского района Курской области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36,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,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06520">
                <a:tc>
                  <a:txBody>
                    <a:bodyPr lIns="36000" rIns="36000" tIns="66240" bIns="360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на непрограммную деятельность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668,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,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</p:spTree>
  </p:cSld>
  <p:transition advTm="10000"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Times New Roman"/>
              </a:rPr>
              <a:t>Расходы бюджета Ледовского сельсовета</a:t>
            </a:r>
            <a:br>
              <a:rPr sz="1800"/>
            </a:br>
            <a:r>
              <a:rPr b="0" lang="ru-RU" sz="1800" spc="-1" strike="noStrike">
                <a:solidFill>
                  <a:srgbClr val="cc0000"/>
                </a:solidFill>
                <a:latin typeface="Times New Roman"/>
              </a:rPr>
              <a:t> Советского района Курской области на 2021 год </a:t>
            </a:r>
            <a:br>
              <a:rPr sz="1800"/>
            </a:br>
            <a:r>
              <a:rPr b="0" lang="ru-RU" sz="1800" spc="-1" strike="noStrike">
                <a:solidFill>
                  <a:srgbClr val="cc0000"/>
                </a:solidFill>
                <a:latin typeface="Times New Roman"/>
              </a:rPr>
              <a:t>в разрезе муниципальных программ  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[1]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571680" y="785880"/>
            <a:ext cx="82692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ходы на реализацию муниципальных программ Ледовского сельсовета Советского района Курской области – 2436,9 тыс. рублей, в том числе по направлениям: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539640" y="1773360"/>
          <a:ext cx="8232840" cy="2327040"/>
        </p:xfrm>
        <a:graphic>
          <a:graphicData uri="http://schemas.openxmlformats.org/drawingml/2006/table">
            <a:tbl>
              <a:tblPr/>
              <a:tblGrid>
                <a:gridCol w="6964560"/>
                <a:gridCol w="1268280"/>
              </a:tblGrid>
              <a:tr h="555480"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муниципальной программы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,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52884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.Муниципальная программа  «Развитие культуры муниципального образования «Ледовский сельсовет» Советского района Курской области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62,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Муниципальная программа «Социальная поддержка граждан  в м.о «Ледовский сельсовет» Советского района Курской области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2,1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776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. Муниципальная программа «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</a:rPr>
                        <a:t>Благоустройство территории муниципального образования «Ледовский сельсовет» Советского района Курской област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,1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Rectangle 55"/>
          <p:cNvSpPr/>
          <p:nvPr/>
        </p:nvSpPr>
        <p:spPr>
          <a:xfrm>
            <a:off x="896760" y="6382440"/>
            <a:ext cx="783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умерация муниципальных программ  указана в соответствии с присвоенными им кодами для отражения в бюджете Ледовского сельсовета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Советского района  Курской области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0000">
    <p:wheel spokes="8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642960" y="785880"/>
            <a:ext cx="81979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ходы на реализацию муниципальных программ Ледовского сельсовета Советского района Курской области –2436,9 тыс.рублей, в том числе по направлениям: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00040" y="2071800"/>
          <a:ext cx="8232840" cy="4002120"/>
        </p:xfrm>
        <a:graphic>
          <a:graphicData uri="http://schemas.openxmlformats.org/drawingml/2006/table">
            <a:tbl>
              <a:tblPr/>
              <a:tblGrid>
                <a:gridCol w="6639120"/>
                <a:gridCol w="1593720"/>
              </a:tblGrid>
              <a:tr h="565200"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государственной программы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,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56348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</a:rPr>
                        <a:t>13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Муниципальная программа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Защита населения и территории от чрезвычайных ситуаций, обеспечение пожарной безопасности и безопасности людей на водных объектах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 в муниципальном образовании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Ледовский сельсовет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 Советского района Курской област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,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Развитие и использование информационных и телекоммуникационных технологий в муниципальном образовании «Ледовский сельсовет» Советского района Курской области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,1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</a:rPr>
                        <a:t>Развитие и укрепление материально-технической базы муниципального образования «Ледовский сельсовет» Советского района Курской области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3,6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0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"/>
          <p:cNvSpPr/>
          <p:nvPr/>
        </p:nvSpPr>
        <p:spPr>
          <a:xfrm>
            <a:off x="374760" y="631800"/>
            <a:ext cx="83944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Муниципальный долг Ледовского сельсовета Советского района Курской област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4638600" y="2914560"/>
            <a:ext cx="3848040" cy="31417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679320" y="3214800"/>
            <a:ext cx="7321680" cy="11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 u="sng">
                <a:solidFill>
                  <a:srgbClr val="003366"/>
                </a:solidFill>
                <a:uFillTx/>
                <a:latin typeface="Times New Roman"/>
              </a:rPr>
              <a:t>Расходы на обслуживание муниципального долга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14720" y="3786120"/>
          <a:ext cx="4143240" cy="2286000"/>
        </p:xfrm>
        <a:graphic>
          <a:graphicData uri="http://schemas.openxmlformats.org/drawingml/2006/table">
            <a:tbl>
              <a:tblPr/>
              <a:tblGrid>
                <a:gridCol w="4143240"/>
              </a:tblGrid>
              <a:tr h="816120">
                <a:tc>
                  <a:txBody>
                    <a:bodyPr tIns="684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tIns="5148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3333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620640">
                <a:tc>
                  <a:txBody>
                    <a:bodyPr tIns="684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90" name="Text Box 29"/>
          <p:cNvSpPr/>
          <p:nvPr/>
        </p:nvSpPr>
        <p:spPr>
          <a:xfrm>
            <a:off x="571680" y="1969920"/>
            <a:ext cx="47145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300" spc="-1" strike="noStrike" u="sng">
                <a:solidFill>
                  <a:srgbClr val="660066"/>
                </a:solidFill>
                <a:uFillTx/>
                <a:latin typeface="Microsoft YaHei"/>
              </a:rPr>
              <a:t>Муниципальный долг</a:t>
            </a:r>
            <a:r>
              <a:rPr b="0" i="1" lang="ru-RU" sz="1300" spc="-1" strike="noStrike">
                <a:solidFill>
                  <a:srgbClr val="800080"/>
                </a:solidFill>
                <a:latin typeface="Microsoft YaHei"/>
              </a:rPr>
              <a:t> </a:t>
            </a:r>
            <a:r>
              <a:rPr b="0" i="1" lang="ru-RU" sz="1300" spc="-1" strike="noStrike">
                <a:solidFill>
                  <a:srgbClr val="800080"/>
                </a:solidFill>
                <a:latin typeface="Times New Roman"/>
              </a:rPr>
              <a:t>–</a:t>
            </a:r>
            <a:r>
              <a:rPr b="0" i="1" lang="ru-RU" sz="1300" spc="-1" strike="noStrike">
                <a:solidFill>
                  <a:srgbClr val="800080"/>
                </a:solidFill>
                <a:latin typeface="Microsoft YaHei"/>
              </a:rPr>
              <a:t> это обязательства, возникающие из муниципальных заимствований (т.е. кредитов, муниципальных ценных бумаг), гарантий по обязательствам третьих лиц, другие обязательства, принятые на себя Ледовским сельсоветом  Советского района Курской области.</a:t>
            </a:r>
            <a:endParaRPr b="1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ccff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685800" y="260280"/>
            <a:ext cx="77724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468360" y="404640"/>
            <a:ext cx="813600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Бюджет для граждан» в доступной для широкого круга пользователей форме раскрывает информацию о бюджете  Ледовского сельсовета Советского района Курской области на 2021 год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ординаторы проекта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.И.Смирнова– начальник отдела бухгалтерского учета и отчетности Ледовского сельсовета Советского район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формация подготовлена Администрацией Ледовского сельсовета Советского района Курской области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e3e6"/>
            </a:gs>
            <a:gs pos="100000">
              <a:srgbClr val="ccffcc"/>
            </a:gs>
          </a:gsLst>
          <a:lin ang="18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468360" y="765000"/>
            <a:ext cx="8218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Контактная информация </a:t>
            </a:r>
            <a:br>
              <a:rPr sz="2800"/>
            </a:b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для взаимодействия с гражданами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alibri"/>
              </a:rPr>
              <a:t>306646, Курская область, Советский район с. Ледовское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alibri"/>
              </a:rPr>
              <a:t>Администрация Ледовского сельсовета Советского района Курской области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alibri"/>
              </a:rPr>
              <a:t>тел.: (47158) 3-35-30 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alibri"/>
              </a:rPr>
              <a:t>Факс: (47158) 3-35-19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alibri"/>
              </a:rPr>
              <a:t>Е</a:t>
            </a:r>
            <a:r>
              <a:rPr b="0" lang="fr-FR" sz="2000" spc="-1" strike="noStrike">
                <a:solidFill>
                  <a:srgbClr val="003366"/>
                </a:solidFill>
                <a:latin typeface="Calibri"/>
              </a:rPr>
              <a:t>-mail:</a:t>
            </a:r>
            <a:r>
              <a:rPr b="0" lang="ru-RU" sz="20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Calibri"/>
              </a:rPr>
              <a:t>ledovskoi306646@mail.ru</a:t>
            </a:r>
            <a:r>
              <a:rPr b="0" lang="ru-RU" sz="2000" spc="-1" strike="noStrike">
                <a:solidFill>
                  <a:srgbClr val="003366"/>
                </a:solidFill>
                <a:latin typeface="Calibri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395280" y="103320"/>
            <a:ext cx="8291520" cy="1022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Times New Roman"/>
              </a:rPr>
              <a:t>Что такое бюджет для граждан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Бюджет для граждан - это упрощенная версия бюджетного документа, которая использует неформальный язык и доступные форматы, чтобы облегчить для граждан понимание бюджета. Он содержит информационно-аналитический материал, доступный для широкого круга неподготовленных пользователей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5000">
    <p:blinds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Times New Roman"/>
              </a:rPr>
              <a:t>Что такое бюджет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Бюджет – это форма образования и расходования денежных средств, предназначенных для финансового обеспечения задач и функций государства и местного самоуправления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6000">
    <p:wheel spokes="8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"/>
          <p:cNvSpPr/>
          <p:nvPr/>
        </p:nvSpPr>
        <p:spPr>
          <a:xfrm>
            <a:off x="46836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Основные характеристики бюджета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Доходы – Расходы = Дефицит (Профицит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Дефицит – превышение расходов над доходам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(принимается решение об источниках покрытия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дефицита – использовать остатки, взять в долг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Профицит – превышение доходов над расходам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(принимается решение об использовании доходов –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накапливать резервы, остатки, погашать долг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5000">
    <p:plus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"/>
          <p:cNvSpPr/>
          <p:nvPr/>
        </p:nvSpPr>
        <p:spPr>
          <a:xfrm>
            <a:off x="539640" y="549360"/>
            <a:ext cx="8229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Microsoft YaHei"/>
              </a:rPr>
              <a:t>Основные характеристики  бюджета Ледовского сельсовета Советского района Курской области на 20</a:t>
            </a:r>
            <a:r>
              <a:rPr b="0" lang="en-US" sz="2600" spc="-1" strike="noStrike">
                <a:solidFill>
                  <a:srgbClr val="cc0000"/>
                </a:solidFill>
                <a:latin typeface="Microsoft YaHei"/>
              </a:rPr>
              <a:t>21</a:t>
            </a:r>
            <a:r>
              <a:rPr b="0" lang="ru-RU" sz="2600" spc="-1" strike="noStrike">
                <a:solidFill>
                  <a:srgbClr val="cc0000"/>
                </a:solidFill>
                <a:latin typeface="Microsoft YaHei"/>
              </a:rPr>
              <a:t> год </a:t>
            </a:r>
            <a:br>
              <a:rPr sz="2600"/>
            </a:b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-57240" y="4827600"/>
            <a:ext cx="246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928800" y="2060640"/>
          <a:ext cx="7073640" cy="3827520"/>
        </p:xfrm>
        <a:graphic>
          <a:graphicData uri="http://schemas.openxmlformats.org/drawingml/2006/table">
            <a:tbl>
              <a:tblPr/>
              <a:tblGrid>
                <a:gridCol w="4838760"/>
                <a:gridCol w="2234880"/>
              </a:tblGrid>
              <a:tr h="400320">
                <a:tc>
                  <a:txBody>
                    <a:bodyPr lIns="90000" rIns="90000" tIns="799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59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(тыс. рублей)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520">
                <a:tc>
                  <a:txBody>
                    <a:bodyPr lIns="90000" rIns="90000" tIns="7992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35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Утверждено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280">
                <a:tc>
                  <a:txBody>
                    <a:bodyPr lIns="90000" rIns="90000"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оходы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892,8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280">
                <a:tc>
                  <a:txBody>
                    <a:bodyPr lIns="90000" rIns="90000"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104,9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1120">
                <a:tc>
                  <a:txBody>
                    <a:bodyPr lIns="90000" rIns="90000"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ефицит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212,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1000">
    <p:push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"/>
          <p:cNvSpPr/>
          <p:nvPr/>
        </p:nvSpPr>
        <p:spPr>
          <a:xfrm>
            <a:off x="46836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Times New Roman"/>
              </a:rPr>
              <a:t>Доходы бюджета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AutoShape 2"/>
          <p:cNvSpPr/>
          <p:nvPr/>
        </p:nvSpPr>
        <p:spPr>
          <a:xfrm>
            <a:off x="3132000" y="1341360"/>
            <a:ext cx="2778120" cy="24685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66ff"/>
              </a:gs>
              <a:gs pos="100000">
                <a:srgbClr val="cc0000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ДОХОДЫ</a:t>
            </a:r>
            <a:endParaRPr b="1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БЮДЖЕТ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безвозмездные и безвозвратные поступления денежных средств в бюджет </a:t>
            </a:r>
            <a:endParaRPr b="1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Oval 3"/>
          <p:cNvSpPr/>
          <p:nvPr/>
        </p:nvSpPr>
        <p:spPr>
          <a:xfrm>
            <a:off x="395280" y="1125360"/>
            <a:ext cx="2556000" cy="2559240"/>
          </a:xfrm>
          <a:prstGeom prst="ellipse">
            <a:avLst/>
          </a:prstGeom>
          <a:gradFill rotWithShape="0">
            <a:gsLst>
              <a:gs pos="0">
                <a:srgbClr val="3366ff"/>
              </a:gs>
              <a:gs pos="100000">
                <a:srgbClr val="d6e0ff"/>
              </a:gs>
            </a:gsLst>
            <a:lin ang="135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НАЛОГОВЫЕ ДОХОДЫ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тупления от уплаты налогов, установленных Налоговым кодексом Российской Федерации, например: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- налог на доходы физических лиц; -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алоги на имущество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государственная пошлина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алоги на совокупный доход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- другие.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Oval 4"/>
          <p:cNvSpPr/>
          <p:nvPr/>
        </p:nvSpPr>
        <p:spPr>
          <a:xfrm>
            <a:off x="6300720" y="1268280"/>
            <a:ext cx="2556000" cy="2559240"/>
          </a:xfrm>
          <a:prstGeom prst="ellipse">
            <a:avLst/>
          </a:prstGeom>
          <a:gradFill rotWithShape="0">
            <a:gsLst>
              <a:gs pos="0">
                <a:srgbClr val="ffccff"/>
              </a:gs>
              <a:gs pos="100000">
                <a:srgbClr val="ff00ff"/>
              </a:gs>
            </a:gsLst>
            <a:lin ang="81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БЕЗВОЗМЕЗДНЫЕ ПОСТУПЛЕНИЯ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тупления в бюджет на безвозмездной и безвозвратной основе из областного бюджета (дотации, субсидии, субвенции), а также перечисления от физических и юридических лиц (кроме налоговых и неналоговых доходов)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Oval 5"/>
          <p:cNvSpPr/>
          <p:nvPr/>
        </p:nvSpPr>
        <p:spPr>
          <a:xfrm>
            <a:off x="3132000" y="4076640"/>
            <a:ext cx="2808360" cy="26337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cccc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НЕНАЛОГОВЫЕ ДОХОДЫ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тупления от уплаты других пошлин и сборов, установленных законодательством Российской Федерации, а также штрафов за нарушение законодательства, например: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доходы от использования муниципального имущества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лата за негативное воздействие на окружающую среду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другие.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Line 6"/>
          <p:cNvSpPr/>
          <p:nvPr/>
        </p:nvSpPr>
        <p:spPr>
          <a:xfrm>
            <a:off x="2916360" y="2637000"/>
            <a:ext cx="760320" cy="226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Line 7"/>
          <p:cNvSpPr/>
          <p:nvPr/>
        </p:nvSpPr>
        <p:spPr>
          <a:xfrm flipH="1">
            <a:off x="5432040" y="2637000"/>
            <a:ext cx="871560" cy="298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Line 8"/>
          <p:cNvSpPr/>
          <p:nvPr/>
        </p:nvSpPr>
        <p:spPr>
          <a:xfrm flipV="1">
            <a:off x="4500720" y="3786120"/>
            <a:ext cx="1440" cy="29376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8000">
    <p:split dir="out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700" spc="-1" strike="noStrike">
                <a:solidFill>
                  <a:srgbClr val="000099"/>
                </a:solidFill>
                <a:latin typeface="Times New Roman"/>
              </a:rPr>
              <a:t>Распределение налоговых доходов между бюджетами на территории Курской области</a:t>
            </a:r>
            <a:endParaRPr b="1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0" y="357120"/>
          <a:ext cx="9110520" cy="6340680"/>
        </p:xfrm>
        <a:graphic>
          <a:graphicData uri="http://schemas.openxmlformats.org/drawingml/2006/table">
            <a:tbl>
              <a:tblPr/>
              <a:tblGrid>
                <a:gridCol w="738360"/>
                <a:gridCol w="4860720"/>
                <a:gridCol w="878040"/>
                <a:gridCol w="804600"/>
                <a:gridCol w="1024200"/>
                <a:gridCol w="804600"/>
              </a:tblGrid>
              <a:tr h="204120">
                <a:tc gridSpan="2" rowSpan="2"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и и сборы, установленные законодательством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Уровни бюджета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ff"/>
                        </a:gs>
                        <a:gs pos="100000">
                          <a:srgbClr val="66ff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89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бластной бюджет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юджеты городских округов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юджеты муниципальных районов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юджеты городских и сельских поселений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18160">
                <a:tc rowSpan="20"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Федеральные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. Налог на прибыль организаций по ставке, установленной для субъектов Российской Федерации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. Налог на доходы физических лиц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36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, кроме налога на доходы физических лиц, являющихся иностранными гражданами, осуществляющими трудовую деятельность по найму у физических лиц на основании патента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5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5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32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, являющихся иностранными гражданами, осуществляющими трудовую деятельность по найму у физических лиц на основании патента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. Акцизы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спирт этиловый из пищевого сырья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спиртосодержащую продукцию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 алкогольную продукцию (пиво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алкогольную продукцию (без пива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0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Доходы от уплаты акцизов на нефтепродукты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 gridSpan="3"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. Налоги со специальными налоговыми режимами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, взимаемый в связи с применением упрощенной системы налогообложения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Единый налог на вмененный доход для отдельных видов деятельности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Единый сельскохозяйственный налог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, взимаемый в связи с применением патентной системы налогообложения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. Налог на добычу полезных ископаемых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бычу общераспространенных полезных ископаемых (песок, глина, мел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бычу прочих полезных ископаемых (железная руда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. Сборы за пользование объектами животного мира (олень, лось, косуля, кабан, барсук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0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. Государственная пошлина (в зависимости от установленных полномочий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rowSpan="3">
                  <a:txBody>
                    <a:bodyPr lIns="36000" rIns="36000" tIns="4752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Региональные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. Налог на имущество организаций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. Налог на игорный бизнес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. Транспортный налог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rowSpan="2"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естные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. Налог на имущество физических лиц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. Земельный налог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advTm="10000">
    <p:push dir="u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Microsoft YaHei"/>
              </a:rPr>
              <a:t>Структура расходов бюджета Ледовского сельсовета </a:t>
            </a:r>
            <a:br>
              <a:rPr sz="1600"/>
            </a:br>
            <a:r>
              <a:rPr b="0" lang="ru-RU" sz="1600" spc="-1" strike="noStrike">
                <a:solidFill>
                  <a:srgbClr val="cc0000"/>
                </a:solidFill>
                <a:latin typeface="Microsoft YaHei"/>
              </a:rPr>
              <a:t>Советского района Курской области </a:t>
            </a:r>
            <a:br>
              <a:rPr sz="1600"/>
            </a:br>
            <a:r>
              <a:rPr b="0" lang="ru-RU" sz="1600" spc="-1" strike="noStrike">
                <a:solidFill>
                  <a:srgbClr val="cc0000"/>
                </a:solidFill>
                <a:latin typeface="Microsoft YaHei"/>
              </a:rPr>
              <a:t>по разделам функциональной классификации на 2021 год 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571760" y="1071720"/>
          <a:ext cx="6715080" cy="5151240"/>
        </p:xfrm>
        <a:graphic>
          <a:graphicData uri="http://schemas.openxmlformats.org/drawingml/2006/table">
            <a:tbl>
              <a:tblPr/>
              <a:tblGrid>
                <a:gridCol w="647640"/>
                <a:gridCol w="3097080"/>
                <a:gridCol w="2970360"/>
              </a:tblGrid>
              <a:tr h="2991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 год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25520">
                <a:tc>
                  <a:txBody>
                    <a:bodyPr lIns="90000" rIns="90000" tIns="684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84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04,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99160">
                <a:tc>
                  <a:txBody>
                    <a:bodyPr lIns="90000" rIns="90000" tIns="684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84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ом числе: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396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68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оборон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,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50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,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56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5,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38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,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552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зование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5460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а, кинематография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62,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552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2,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156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 spd="med" advTm="20000">
    <p:cover dir="r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Microsoft YaHei"/>
                <a:ea typeface="Times New Roman"/>
              </a:rPr>
              <a:t>Расходы бюджета Ледовского сельсовета Советского района Курской области на культуру в 2021 году 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–1262,2</a:t>
            </a:r>
            <a:r>
              <a:rPr b="0" lang="ru-RU" sz="2000" spc="-1" strike="noStrike">
                <a:solidFill>
                  <a:srgbClr val="cc0000"/>
                </a:solidFill>
                <a:latin typeface="Microsoft YaHei"/>
                <a:ea typeface="Times New Roman"/>
              </a:rPr>
              <a:t> тыс. рубл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Содержимое 6" descr=""/>
          <p:cNvPicPr/>
          <p:nvPr/>
        </p:nvPicPr>
        <p:blipFill>
          <a:blip r:embed="rId1"/>
          <a:stretch/>
        </p:blipFill>
        <p:spPr>
          <a:xfrm>
            <a:off x="534960" y="1211400"/>
            <a:ext cx="832320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9T11:34:59Z</dcterms:created>
  <dc:creator/>
  <dc:description/>
  <dc:language>en-US</dc:language>
  <cp:lastModifiedBy>ledovskoi306646@mail.ru</cp:lastModifiedBy>
  <dcterms:modified xsi:type="dcterms:W3CDTF">2023-02-10T08:40:45Z</dcterms:modified>
  <cp:revision>465</cp:revision>
  <dc:subject/>
  <dc:title>Слайд 1</dc:title>
</cp:coreProperties>
</file>