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42487-2022-46F1-BE11-F0A2787A49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8540-5CF3-4B87-A67B-D58D8F176D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00CB4-00FB-4B04-86CD-A200B8001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8B27D-4E17-4618-827C-9532AF51BB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FCB55-4715-4748-8CFB-EA78D5C9BF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1FE02-1136-4E55-B885-B2A23769A3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2B84-3575-4FCD-9166-75AF3F4C6F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7E969-75E5-4B94-9106-B9F9278CDE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23697-79A7-4A7F-B5FD-52166637D3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C2D38-3997-4BFE-92C2-04A42E238F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72BA5-ACD5-451F-A16E-098CABCE33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1A205-CCE9-4880-B126-90C982CF65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D8EBC-386F-4DCC-9BD5-3D975C820A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2A6EC-40DA-4D88-AA5A-ECCD91CFC5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FF4E8-66C2-45E0-8B8C-85EE80AE16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DAFAB-4528-4CA5-9280-B660FDD5E9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A90B-C699-47BF-945A-CFA1CCF980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5BBE-276C-460A-8E2D-F7EC7605C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BC1A-2E91-410C-95AF-6F6E90534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ECCF-CE77-4DEB-A2F3-6607168D7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1BB3-4236-4AF9-B9AB-392CABD65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D7AB-D6BE-4B0C-9164-595066938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E92F-4A13-48A5-9D2F-8B2175F09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F13B-F7D6-4E35-8617-64E7326F2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0B27-CFE1-4578-93AA-B26E060BC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8044-483F-422B-A54E-FDACB29F5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5D40-3B77-43E0-A674-430B2D7A7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2313-8F7A-480E-AA09-50A9332B1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EFA5-8D15-4138-B10C-DA7A2FC22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C7A8A4-7A59-47C7-9EBB-71BA92166BCB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2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 10.12.20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1 года № 1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Ледовского сельсовета Советского района  Курской области на 2022 год и  плановый период 2023и 2024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2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2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6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2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050,0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37288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6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Развитие муниципальной службы  в муниципальном образовании Ледовского сельсовета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050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6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2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2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14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456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1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2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6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6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2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086,7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2-02-22T10:34:59Z</dcterms:modified>
  <cp:revision>463</cp:revision>
  <dc:subject/>
  <dc:title>Слайд 1</dc:title>
</cp:coreProperties>
</file>