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745FC-959C-4076-B056-E964A318D7C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B9C5B-1A8D-406B-95EA-57236811F26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7A94E-5D72-4CEF-B897-D90DA253A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A3A8B-C8AE-4FF6-918C-FD540915939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F489C-82BC-4939-8A42-425822E7050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8993A-6D37-4ED8-9F05-110AE0A2A72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3A19F-7A25-48E0-8156-8EE0754EC42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B8057-FCCE-4070-917A-5AC62E46292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DC0D5-0E84-4914-8880-9981C881EE3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43FE5-654B-47EB-9875-6F55D4C072C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03B5D-8F4D-49B8-853B-9DB08AD0CA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ACEB9-B21D-469B-BC06-5C3B620B907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81F30-C763-4762-9ADE-127EFD5878E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EFE49-231C-47DC-847C-F774C215C7A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AE8E7-786E-4D48-9D10-A4478E08640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8F156-93E1-43D1-967C-09347A25572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CF649-73BF-43A8-9D5A-1CFA87F972C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EBAE-FC26-4035-93A9-FD9A57696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5440-F1AA-4E18-901A-4B960D4E1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FCF8-A5BE-48A1-8DDD-DED0E603D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5024-1752-402A-960D-F454A0C7E9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3DB4-F849-4F69-813F-EE6F90D6F8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E4B3-4C23-4AA6-B60E-7DB4BB9C6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087C-8C73-4E58-AFE8-F0CE69E02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6D13-AB9C-468E-BF26-EE3EE8D6F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D614-36E7-488A-BF0E-49F0C90EE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8FE9-C52D-43E8-98E9-FD816C999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5645-FDFB-4BD7-B9FD-EF8B46515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4421-C724-4656-838C-BAFA8890F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6A8ABD-588E-46C6-98D0-A5E92939109F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ЛЕДОВСКОГО СЕЛЬСОВЕТА СОВЕТСКОГО РАЙОНА КУРСКОЙ ОБЛАСТИ НА 2019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Ледовского се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10.12.2018 года № 35«О бюджете  Ледовского сельсовета Советского района  Курской области на 2019 год и  плановый период 2020 и 2021 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85840" y="2000160"/>
          <a:ext cx="8753400" cy="306072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119916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19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Выплата пенсий за выслугу лет и доплат к пенсиям муниципальных служащих Ледов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Лед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19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4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Лед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0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Лед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19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 1683,2 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9640" y="1773360"/>
          <a:ext cx="8232840" cy="390672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88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Ледовский сельсовет» Советского района Курской области на 2015-2020гг"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146,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Ледовский сельсовет» Советского района Курской области на 2018-2020гг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4,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Энергосбережение и повышение энергетической эффективности в МО «Ледовский сельсовет» Советского района Курской области на 2018-2020гг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Благоустройство территории муниципального образования «Ледовский сельсовет» Советского района Курской области на 2018-2020гг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0,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0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«Развитие муниципальной службы  в муниципальном образовании Ледовского сельсовета Советского района Советского района Курской области на 2017-2019гг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55"/>
          <p:cNvSpPr/>
          <p:nvPr/>
        </p:nvSpPr>
        <p:spPr>
          <a:xfrm>
            <a:off x="896760" y="6382440"/>
            <a:ext cx="783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Ледов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1683,2 тыс.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00040" y="2071800"/>
          <a:ext cx="8232840" cy="399564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4792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476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1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» в муниципальном образовании «Ледовский сельсовет» Советского района Курской области на 2018-2020гг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муниципальном образовании «Ледовский сельсовет» Советского района Курской области на 2015-2020гг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15,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Развитие и укрепление материально-технической базы муниципального образования «Ледовский сельсовет Советского района Курской области» на 2016-2020 гг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Лед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1" name="Text Box 29"/>
          <p:cNvSpPr/>
          <p:nvPr/>
        </p:nvSpPr>
        <p:spPr>
          <a:xfrm>
            <a:off x="571680" y="1969920"/>
            <a:ext cx="4714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Microsoft YaHei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Лед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Ледовского сельсовета Советского района Курской области на 2019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И.Смирнова– начальник отдела бухгалтерского учета и отчетности Лед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Лед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306646, Курская область, Советский район с. Ледовско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Администрация Лед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тел.: (47158) 3-35-30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Факс: (47158) 3-35-1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Calibri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Calibri"/>
              </a:rPr>
              <a:t>ledovskoi306646@mail.ru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Основные характеристики  бюджета Ледовского сельсовета Советского района Курской области              на 201</a:t>
            </a: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9</a:t>
            </a: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592,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814,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21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труктура расходов бюджета Ледов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по разделам функциональной классификации на 201</a:t>
            </a: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9</a:t>
            </a: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71760" y="1071720"/>
          <a:ext cx="6715080" cy="515916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297036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52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4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8,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7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42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1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6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6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Microsoft YaHei"/>
                <a:ea typeface="Times New Roman"/>
              </a:rPr>
              <a:t>Расходы бюджета Ледовского сельсовета Советского района Курской области на культуру в 201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9</a:t>
            </a:r>
            <a:r>
              <a:rPr b="0" lang="ru-RU" sz="2000" spc="-1" strike="noStrike">
                <a:solidFill>
                  <a:srgbClr val="009900"/>
                </a:solidFill>
                <a:latin typeface="Microsoft YaHei"/>
                <a:ea typeface="Times New Roman"/>
              </a:rPr>
              <a:t> году </a:t>
            </a:r>
            <a:r>
              <a:rPr b="0" lang="ru-RU" sz="2000" spc="-1" strike="noStrike">
                <a:solidFill>
                  <a:srgbClr val="cc0000"/>
                </a:solidFill>
                <a:latin typeface="Microsoft YaHe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1146,3</a:t>
            </a:r>
            <a:r>
              <a:rPr b="0" lang="ru-RU" sz="2000" spc="-1" strike="noStrike">
                <a:solidFill>
                  <a:srgbClr val="cc0000"/>
                </a:solidFill>
                <a:latin typeface="Microsoft YaHei"/>
                <a:ea typeface="Times New Roman"/>
              </a:rPr>
              <a:t> тыс. руб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Содержимое 6"/>
          <p:cNvGraphicFramePr/>
          <p:nvPr/>
        </p:nvGraphicFramePr>
        <p:xfrm>
          <a:off x="534960" y="1211400"/>
          <a:ext cx="8323200" cy="42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211400"/>
                    <a:ext cx="832320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user</cp:lastModifiedBy>
  <dcterms:modified xsi:type="dcterms:W3CDTF">2019-03-11T10:44:36Z</dcterms:modified>
  <cp:revision>455</cp:revision>
  <dc:subject/>
  <dc:title>Слайд 1</dc:title>
</cp:coreProperties>
</file>