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CDB63-0031-4787-882D-2D536A941EE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9D09C-3AED-4F7B-A76E-4B66B5C5DB9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32E1B-DC95-40A5-B21C-4F1859FF66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CCADA-C253-4921-A497-569D65AF832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EE6F7-E336-404B-9E68-A3D47A6339F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F958E-8B71-4655-81A4-564147752D4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A7579-2DFB-498B-8F5A-CC897285540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8DA77-8DB0-4852-9DE4-9FC3ECC5FE7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1BD0D-73CD-4324-9116-406FC31D0CD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324C7-C9AA-4094-9A5C-BCFD2959F54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E77BF-1C71-4365-A6B0-5F8C13670D7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9D1FD-B72D-4ADC-ACF4-C51DFEFA9E3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EC3A1-7EE4-4F6A-9AB5-47BE81982F3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00328-544C-4CAA-8889-DDE652E3A29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73F46-B4A5-4C32-BE04-7E89B6A69E8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4BBB9-C00D-4745-89B4-DCEDBF46001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50C18-7F1F-4334-A66C-20E2BBFD080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F04F-BB84-471F-94D3-5761B6F25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5121B-6F87-42CD-BEEC-6F9816C62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D4CC-392F-4C6E-B2B8-F2A5CA1A2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48C2-FC0E-4D4F-AA28-BAD287389B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65690-0186-46EC-8141-6DBCCED48B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A20ED-2D4B-4FA8-B0F9-9DA1C28DB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15674-E702-4808-90C9-D62B0EE6FE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B639-A0AC-43C2-95A0-741772565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FECF-B55F-4C1A-B6F3-639AB08BE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CA93E-7E7D-4A84-9B5A-1127E3484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01FE-560C-47F5-A3E8-D9BB89654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7A1E3-3033-4889-A047-69333E861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7A822A-598A-47E1-85AC-B28D6A07EC2C}" type="slidenum"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14240" y="785880"/>
            <a:ext cx="77155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ЛЕДОВСКОГО СЕЛЬСОВЕТА СОВЕТСКОГО РАЙОНА КУРСКОЙ ОБЛАСТИ НА 2019 ГО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К проекту решения Собрания  депутатов  Ледовского се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«Об исполнении бюджет</a:t>
            </a:r>
            <a:r>
              <a:rPr b="0" lang="ru-RU" sz="1200" spc="-1" strike="noStrike">
                <a:solidFill>
                  <a:srgbClr val="0066ff"/>
                </a:solidFill>
                <a:latin typeface="Microsoft YaHei"/>
              </a:rPr>
              <a:t>а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Ледовского сельсовета Советского района  Курской области за 2019 год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571680" y="500040"/>
            <a:ext cx="812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Меры социальной поддержки, оказываемые отдельным категориям граждан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85840" y="2000160"/>
          <a:ext cx="8753400" cy="3060720"/>
        </p:xfrm>
        <a:graphic>
          <a:graphicData uri="http://schemas.openxmlformats.org/drawingml/2006/table">
            <a:tbl>
              <a:tblPr/>
              <a:tblGrid>
                <a:gridCol w="6432480"/>
                <a:gridCol w="1285920"/>
                <a:gridCol w="1035000"/>
              </a:tblGrid>
              <a:tr h="1199160"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19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348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8120">
                <a:tc>
                  <a:txBody>
                    <a:bodyPr lIns="36000" rIns="36000" tIns="66240" bIns="36000" anchor="t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Выплата пенсий за выслугу лет и доплат к пенсиям муниципальных служащих Ледовского сельсовета Советского район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1480">
                <a:tc gridSpan="2"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p:transition advTm="5000">
    <p:wheel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бюджета Ледовского сельсовета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19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14200" y="1143000"/>
          <a:ext cx="8288280" cy="5143680"/>
        </p:xfrm>
        <a:graphic>
          <a:graphicData uri="http://schemas.openxmlformats.org/drawingml/2006/table">
            <a:tbl>
              <a:tblPr/>
              <a:tblGrid>
                <a:gridCol w="5418360"/>
                <a:gridCol w="1650960"/>
                <a:gridCol w="1218960"/>
              </a:tblGrid>
              <a:tr h="635040"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 rowSpan="2">
                  <a:txBody>
                    <a:bodyPr lIns="90000" rIns="90000" tIns="8460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74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608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Ледов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8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,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652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5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Расходы бюджета Ледовского сельсовета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 Советского района Курской области на 2019 год 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в разрезе муниципальных программ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571680" y="785880"/>
            <a:ext cx="8269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довского сельсовета Советского района Курской области – 2558,6 тыс. 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39640" y="1773360"/>
          <a:ext cx="8232840" cy="3035160"/>
        </p:xfrm>
        <a:graphic>
          <a:graphicData uri="http://schemas.openxmlformats.org/drawingml/2006/table">
            <a:tbl>
              <a:tblPr/>
              <a:tblGrid>
                <a:gridCol w="6964560"/>
                <a:gridCol w="1268280"/>
              </a:tblGrid>
              <a:tr h="55548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2884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Муниципальная программа  «Развитие культуры муниципального образования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235,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Муниципальная программа «Социальная поддержка граждан  в м.о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63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. 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Благоустройство территории муниципального образования «Ледовский сельсовет» Совет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61,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0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Муниципальная программа «Развитие муниципальной службы  в муниципальном образовании Ледовского сельсовета Советского района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4,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Rectangle 55"/>
          <p:cNvSpPr/>
          <p:nvPr/>
        </p:nvSpPr>
        <p:spPr>
          <a:xfrm>
            <a:off x="896760" y="6382440"/>
            <a:ext cx="783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умерация муниципальных программ  указана в соответствии с присвоенными им кодами для отражения в бюджете Ледовского сельсовета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ветского района  Курской области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642960" y="785880"/>
            <a:ext cx="8197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довского сельсовета Советского района Курской области –2558,6 тыс.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00040" y="2071800"/>
          <a:ext cx="8232840" cy="2438280"/>
        </p:xfrm>
        <a:graphic>
          <a:graphicData uri="http://schemas.openxmlformats.org/drawingml/2006/table">
            <a:tbl>
              <a:tblPr/>
              <a:tblGrid>
                <a:gridCol w="6639120"/>
                <a:gridCol w="1593720"/>
              </a:tblGrid>
              <a:tr h="56520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государствен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363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использование информационных и телекоммуникационных технологий в муниципальном образовании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40,7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Развитие и укрепление материально-технической базы муниципального образования «Ледовский сельсовет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406,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Ледовского сельсовета Советского района 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14720" y="3786120"/>
          <a:ext cx="4143240" cy="2286000"/>
        </p:xfrm>
        <a:graphic>
          <a:graphicData uri="http://schemas.openxmlformats.org/drawingml/2006/table">
            <a:tbl>
              <a:tblPr/>
              <a:tblGrid>
                <a:gridCol w="4143240"/>
              </a:tblGrid>
              <a:tr h="81612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064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1" name="Text Box 29"/>
          <p:cNvSpPr/>
          <p:nvPr/>
        </p:nvSpPr>
        <p:spPr>
          <a:xfrm>
            <a:off x="571680" y="1969920"/>
            <a:ext cx="4714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Microsoft YaHei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Microsoft YaHei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Ледов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 бюджете  Ледовского сельсовета Советского района Курской области </a:t>
            </a:r>
            <a:r>
              <a:rPr b="0" lang="ru-RU" sz="2000" spc="-1" strike="noStrike">
                <a:solidFill>
                  <a:srgbClr val="000000"/>
                </a:solidFill>
                <a:latin typeface="Microsoft YaHei"/>
              </a:rPr>
              <a:t>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2019 год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И.Смирнова– начальник отдела бухгалтерского учета и отчетности Ледовского сельсовета Советского райо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Ледовс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306646, Курская область, Советский район с. Ледовское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Администрация Ледовс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тел.: (47158) 3-35-30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Факс: (47158) 3-35-1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Calibri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Calibri"/>
              </a:rPr>
              <a:t>ledovskoi306646@mail.ru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395280" y="103320"/>
            <a:ext cx="8291520" cy="102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 для граждан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Microsoft YaHei"/>
              </a:rPr>
              <a:t>Исполнение  бюджета Ледовского сельсовета Советского района Курской области за 20</a:t>
            </a: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19</a:t>
            </a:r>
            <a:r>
              <a:rPr b="0" lang="ru-RU" sz="2600" spc="-1" strike="noStrike">
                <a:solidFill>
                  <a:srgbClr val="cc0000"/>
                </a:solidFill>
                <a:latin typeface="Microsoft YaHei"/>
              </a:rPr>
              <a:t> год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28800" y="2060640"/>
          <a:ext cx="7073640" cy="3827520"/>
        </p:xfrm>
        <a:graphic>
          <a:graphicData uri="http://schemas.openxmlformats.org/drawingml/2006/table">
            <a:tbl>
              <a:tblPr/>
              <a:tblGrid>
                <a:gridCol w="4838760"/>
                <a:gridCol w="223488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сполнен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218,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174,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1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4,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95280" y="112536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d6e0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 -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имущество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Oval 4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00ff"/>
              </a:gs>
            </a:gsLst>
            <a:lin ang="81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Oval 5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7"/>
          <p:cNvSpPr/>
          <p:nvPr/>
        </p:nvSpPr>
        <p:spPr>
          <a:xfrm flipH="1">
            <a:off x="5432040" y="2637000"/>
            <a:ext cx="87156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4500720" y="3786120"/>
            <a:ext cx="1440" cy="2937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8000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99"/>
                </a:solidFill>
                <a:latin typeface="Times New Roman"/>
              </a:rPr>
              <a:t>Распределение налоговых доходов между бюджетами на территории Курской обла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357120"/>
          <a:ext cx="9110520" cy="6340680"/>
        </p:xfrm>
        <a:graphic>
          <a:graphicData uri="http://schemas.openxmlformats.org/drawingml/2006/table">
            <a:tbl>
              <a:tblPr/>
              <a:tblGrid>
                <a:gridCol w="738360"/>
                <a:gridCol w="4860720"/>
                <a:gridCol w="878040"/>
                <a:gridCol w="804600"/>
                <a:gridCol w="1024200"/>
                <a:gridCol w="804600"/>
              </a:tblGrid>
              <a:tr h="204120">
                <a:tc gridSpan="2"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бюджета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66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ластной бюджет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8160">
                <a:tc rowSpan="20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прибыль организаций по ставке, установленной для субъектов Российской Федераци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доходы физических лиц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6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кроме налога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Акцизы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 этиловый из пищевого сырь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осодержащую продукцию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 алкогольную продукцию (пиво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алкогольную продукцию (без пив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ходы от уплаты акцизов на нефтепродукты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Налоги со специальными налоговыми режимами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упрощен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Налог на добычу полезных ископаемых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общераспространенных полезных ископаемых (песок, глина, мел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прочих полезных ископаемых (железная руд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Сборы за пользование объектами животного мира (олень, лось, косуля, кабан, барсук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Государственная пошлина (в зависимости от установленных полномочий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3">
                  <a:txBody>
                    <a:bodyPr lIns="36000" rIns="36000" tIns="4752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организаций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игорный бизнес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Транспорт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физических лиц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Земель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advTm="10000">
    <p:push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Структура расходов бюджета Ледовс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по разделам функциональной классификации за 20</a:t>
            </a: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19</a:t>
            </a: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 год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71760" y="1071720"/>
          <a:ext cx="6715080" cy="5159160"/>
        </p:xfrm>
        <a:graphic>
          <a:graphicData uri="http://schemas.openxmlformats.org/drawingml/2006/table">
            <a:tbl>
              <a:tblPr/>
              <a:tblGrid>
                <a:gridCol w="647640"/>
                <a:gridCol w="3097080"/>
                <a:gridCol w="297036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552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74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39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89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6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7,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56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6,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42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,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1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46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5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15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Microsoft YaHei"/>
                <a:ea typeface="Times New Roman"/>
              </a:rPr>
              <a:t>Расходы бюджета Ледовского сельсовета Советского района Курской области на культуру в 20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19</a:t>
            </a:r>
            <a:r>
              <a:rPr b="0" lang="ru-RU" sz="2000" spc="-1" strike="noStrike">
                <a:solidFill>
                  <a:srgbClr val="009900"/>
                </a:solidFill>
                <a:latin typeface="Microsoft YaHei"/>
                <a:ea typeface="Times New Roman"/>
              </a:rPr>
              <a:t> году </a:t>
            </a:r>
            <a:r>
              <a:rPr b="0" lang="ru-RU" sz="2000" spc="-1" strike="noStrike">
                <a:solidFill>
                  <a:srgbClr val="cc0000"/>
                </a:solidFill>
                <a:latin typeface="Microsoft YaHe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1235,9</a:t>
            </a:r>
            <a:r>
              <a:rPr b="0" lang="ru-RU" sz="2000" spc="-1" strike="noStrike">
                <a:solidFill>
                  <a:srgbClr val="cc0000"/>
                </a:solidFill>
                <a:latin typeface="Microsoft YaHei"/>
                <a:ea typeface="Times New Roman"/>
              </a:rPr>
              <a:t> тыс. рубл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Содержимое 6"/>
          <p:cNvGraphicFramePr/>
          <p:nvPr/>
        </p:nvGraphicFramePr>
        <p:xfrm>
          <a:off x="539640" y="1197000"/>
          <a:ext cx="8323200" cy="488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Содержимое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8323200" cy="48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/>
  <dc:description/>
  <dc:language>en-US</dc:language>
  <cp:lastModifiedBy>user</cp:lastModifiedBy>
  <dcterms:modified xsi:type="dcterms:W3CDTF">2021-02-24T10:18:32Z</dcterms:modified>
  <cp:revision>457</cp:revision>
  <dc:subject/>
  <dc:title>Слайд 1</dc:title>
</cp:coreProperties>
</file>