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796080" cy="9928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54">
                <a:moveTo>
                  <a:pt x="5" y="0"/>
                </a:moveTo>
                <a:arcTo wR="5" hR="5" stAng="16200000" swAng="-5400000"/>
                <a:lnTo>
                  <a:pt x="0" y="31549"/>
                </a:lnTo>
                <a:arcTo wR="5" hR="5" stAng="10800000" swAng="-5400000"/>
                <a:lnTo>
                  <a:pt x="21595" y="315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915480" y="744480"/>
            <a:ext cx="4962600" cy="37195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3849480" y="9429480"/>
            <a:ext cx="29430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FF4831-3F15-4C2C-A8CB-1439D9E2EBD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235F71-ACA0-407D-9990-66C3DC6E271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1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96C1E1-77FC-4C59-AE88-042274A38E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E29C42-C92C-4C89-B686-7D1EB806613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AC1395-1EBA-415D-946A-1DF44FD3024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A8046A-D440-4283-A785-C42C7F3F3D6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949BBE-A052-430B-BAA8-D5AABBEFC1A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E747E3-610C-46CA-95E0-15F60105EC7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841EDD-4AB9-4978-BAA5-74632CB66E9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761E1E-C73A-48B6-91C0-26EFDBA4A6E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12AD5E-CFE5-4B14-8C31-7C63E947E57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D18746-92CD-4468-846E-FC75B313BD0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D40239-8EFD-4F7D-A893-2FE3A5D894C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B85A0C-DE3F-4CCD-A106-EDA2A348534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5A612D-255C-4965-8F4C-DAF2B0AD0F3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BAC15F-52FA-4C9B-9BB8-D4A0D5A640F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8"/>
          <p:cNvSpPr/>
          <p:nvPr/>
        </p:nvSpPr>
        <p:spPr>
          <a:xfrm>
            <a:off x="3849840" y="9429840"/>
            <a:ext cx="2943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B6990C-6028-474B-8BB9-90EF1E37E1A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958A2-19CC-4FC6-AB25-14BE8182D1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33807-941B-4FC4-952F-B2B7F090B6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E2944-4E33-4E96-AFD9-1C469CA8AA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3DD30-7C9E-4EEB-9DDC-D37373785E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108BC-1395-4517-BC01-E930C83FA0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95497-E370-4F94-9FAC-9E9D9FD55F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27B2E-39E0-44CB-A368-79DD96BD21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00031-676F-42CC-BA81-5F447F9570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5205B-3ED8-4D41-A73F-5146AA0273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834C3-0EDF-47A5-B22D-72EE1D8E30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15834-A720-4472-B59A-C720DF27C3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D51B6-5EEA-4093-AC42-426E13459A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3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C10A633-2000-47A6-99ED-7CD0362C1943}" type="slidenum"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e0e3"/>
            </a:gs>
            <a:gs pos="50000">
              <a:srgbClr val="ccff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"/>
          <p:cNvSpPr/>
          <p:nvPr/>
        </p:nvSpPr>
        <p:spPr>
          <a:xfrm>
            <a:off x="714240" y="785880"/>
            <a:ext cx="771552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БЮДЖЕТ ДЛЯ ГРАЖДАН ЛЕДОВСКОГО СЕЛЬСОВЕТА СОВЕТСКОГО РАЙОНА КУРСКОЙ ОБЛАСТИ НА 2019 ГОД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395280" y="6021360"/>
            <a:ext cx="83534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Times New Roman"/>
              </a:rPr>
              <a:t>К решению Собрания  депутатов  Ледовского сеельсовета Советского района Курской области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66ff"/>
                </a:solidFill>
                <a:latin typeface="Times New Roman"/>
              </a:rPr>
              <a:t>от 09.12.2019 года № 20«О бюджете  Ледовского сельсовета Советского района  Курской области на 2020 год и  плановый период 2021 и 2022 годов»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1"/>
          <p:cNvSpPr/>
          <p:nvPr/>
        </p:nvSpPr>
        <p:spPr>
          <a:xfrm>
            <a:off x="571680" y="500040"/>
            <a:ext cx="81262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Times New Roman"/>
              </a:rPr>
              <a:t>Меры социальной поддержки, оказываемые отдельным категориям граждан</a:t>
            </a: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85840" y="2000160"/>
          <a:ext cx="8753400" cy="3060720"/>
        </p:xfrm>
        <a:graphic>
          <a:graphicData uri="http://schemas.openxmlformats.org/drawingml/2006/table">
            <a:tbl>
              <a:tblPr/>
              <a:tblGrid>
                <a:gridCol w="6432480"/>
                <a:gridCol w="1285920"/>
                <a:gridCol w="1035000"/>
              </a:tblGrid>
              <a:tr h="1199160">
                <a:tc>
                  <a:txBody>
                    <a:bodyPr lIns="54000" rIns="54000" tIns="80640" bIns="540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меры социальной поддержки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505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54000" rIns="54000" tIns="80640" bIns="540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ателей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505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54000" rIns="54000" tIns="80640" bIns="540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2019 год,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с. рублей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505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83480">
                <a:tc>
                  <a:txBody>
                    <a:bodyPr lIns="36000" rIns="36000" tIns="8136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" rIns="36000" tIns="8136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" rIns="36000" tIns="81360" bIns="36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78120">
                <a:tc>
                  <a:txBody>
                    <a:bodyPr lIns="36000" rIns="36000" tIns="66240" bIns="36000" anchor="t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Microsoft YaHei"/>
                          <a:ea typeface="Times New Roman"/>
                        </a:rPr>
                        <a:t>Выплата пенсий за выслугу лет и доплат к пенсиям муниципальных служащих Ледовского сельсовета Советского района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Microsoft YaHei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Microsoft YaHei"/>
                          <a:ea typeface="Times New Roman"/>
                        </a:rPr>
                        <a:t>Курской области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" rIns="36000" tIns="66240" bIns="360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36000" rIns="36000" tIns="66240" bIns="360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,3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21480">
                <a:tc gridSpan="2">
                  <a:txBody>
                    <a:bodyPr lIns="36000" rIns="36000" tIns="66240" bIns="36000" anchor="ctr">
                      <a:noAutofit/>
                    </a:bodyPr>
                    <a:p>
                      <a:pPr marL="343080" indent="-339840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: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36000" tIns="66240" bIns="360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,3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</a:tbl>
          </a:graphicData>
        </a:graphic>
      </p:graphicFrame>
    </p:spTree>
  </p:cSld>
  <p:transition advTm="5000">
    <p:wheel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1"/>
          <p:cNvSpPr/>
          <p:nvPr/>
        </p:nvSpPr>
        <p:spPr>
          <a:xfrm>
            <a:off x="250920" y="0"/>
            <a:ext cx="87138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«Программная» структура расходов </a:t>
            </a:r>
            <a:br>
              <a:rPr sz="2000"/>
            </a:b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 бюджета Ледовского сельсовета</a:t>
            </a:r>
            <a:br>
              <a:rPr sz="2000"/>
            </a:b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 Советского района Курской области на 2019 год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14200" y="1143000"/>
          <a:ext cx="8288280" cy="5143680"/>
        </p:xfrm>
        <a:graphic>
          <a:graphicData uri="http://schemas.openxmlformats.org/drawingml/2006/table">
            <a:tbl>
              <a:tblPr/>
              <a:tblGrid>
                <a:gridCol w="5418360"/>
                <a:gridCol w="1650960"/>
                <a:gridCol w="1218960"/>
              </a:tblGrid>
              <a:tr h="635040">
                <a:tc>
                  <a:txBody>
                    <a:bodyPr lIns="90000" rIns="90000" tIns="84600" bIns="46800" anchor="b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84600" bIns="46800" anchor="b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9600">
                <a:tc rowSpan="2">
                  <a:txBody>
                    <a:bodyPr lIns="90000" rIns="90000" tIns="84600" bIns="468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gridSpan="2">
                  <a:txBody>
                    <a:bodyPr lIns="90000" rIns="90000" tIns="77040" bIns="468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9 год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тыс. рублей)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marL="343080" indent="-339840" algn="ct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765e7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898560">
                <a:tc>
                  <a:txBody>
                    <a:bodyPr lIns="36000" rIns="36000" tIns="66240" bIns="36000" anchor="b">
                      <a:noAutofit/>
                    </a:bodyPr>
                    <a:p>
                      <a:pPr marL="343080" indent="-339840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39840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а, всего: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14,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57200">
                <a:tc>
                  <a:txBody>
                    <a:bodyPr lIns="36000" rIns="36000" tIns="60840" bIns="360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</a:t>
                      </a:r>
                      <a:endParaRPr b="1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898560">
                <a:tc>
                  <a:txBody>
                    <a:bodyPr lIns="36000" rIns="36000" tIns="66240" bIns="360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на реализацию муниципальных программ Ледовского сельсовета Советского района Курской области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83,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,8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06520">
                <a:tc>
                  <a:txBody>
                    <a:bodyPr lIns="36000" rIns="36000" tIns="66240" bIns="360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на непрограммную деятельность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30,9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36000" rIns="36000" tIns="62640" bIns="36000" anchor="b">
                      <a:noAutofit/>
                    </a:bodyPr>
                    <a:p>
                      <a:pPr marL="343080" indent="-339840" algn="r">
                        <a:lnSpc>
                          <a:spcPct val="90000"/>
                        </a:lnSpc>
                        <a:tabLst>
                          <a:tab algn="l" pos="0"/>
                          <a:tab algn="l" pos="343080"/>
                          <a:tab algn="l" pos="790560"/>
                          <a:tab algn="l" pos="1239840"/>
                          <a:tab algn="l" pos="1689120"/>
                          <a:tab algn="l" pos="2138400"/>
                          <a:tab algn="l" pos="2587680"/>
                          <a:tab algn="l" pos="3036960"/>
                          <a:tab algn="l" pos="3486240"/>
                          <a:tab algn="l" pos="3935520"/>
                          <a:tab algn="l" pos="4384800"/>
                          <a:tab algn="l" pos="4834080"/>
                          <a:tab algn="l" pos="5283360"/>
                          <a:tab algn="l" pos="5732640"/>
                          <a:tab algn="l" pos="6181560"/>
                          <a:tab algn="l" pos="6630840"/>
                          <a:tab algn="l" pos="7080120"/>
                          <a:tab algn="l" pos="7529400"/>
                          <a:tab algn="l" pos="7978680"/>
                          <a:tab algn="l" pos="8427960"/>
                          <a:tab algn="l" pos="8877240"/>
                          <a:tab algn="l" pos="932652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,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</p:spTree>
  </p:cSld>
  <p:transition advTm="10000">
    <p:fad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1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Times New Roman"/>
              </a:rPr>
              <a:t>Расходы бюджета Ледовского сельсовета</a:t>
            </a:r>
            <a:br>
              <a:rPr sz="1800"/>
            </a:br>
            <a:r>
              <a:rPr b="0" lang="ru-RU" sz="1800" spc="-1" strike="noStrike">
                <a:solidFill>
                  <a:srgbClr val="cc0000"/>
                </a:solidFill>
                <a:latin typeface="Times New Roman"/>
              </a:rPr>
              <a:t> Советского района Курской области на 2019 год </a:t>
            </a:r>
            <a:br>
              <a:rPr sz="1800"/>
            </a:br>
            <a:r>
              <a:rPr b="0" lang="ru-RU" sz="1800" spc="-1" strike="noStrike">
                <a:solidFill>
                  <a:srgbClr val="cc0000"/>
                </a:solidFill>
                <a:latin typeface="Times New Roman"/>
              </a:rPr>
              <a:t>в разрезе муниципальных программ  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[1]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Text Box 2"/>
          <p:cNvSpPr/>
          <p:nvPr/>
        </p:nvSpPr>
        <p:spPr>
          <a:xfrm>
            <a:off x="571680" y="785880"/>
            <a:ext cx="82692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ходы на реализацию муниципальных программ Ледовского сельсовета Советского района Курской области – 1683,2 тыс. рублей, в том числе по направлениям: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539640" y="1773360"/>
          <a:ext cx="8232840" cy="3906720"/>
        </p:xfrm>
        <a:graphic>
          <a:graphicData uri="http://schemas.openxmlformats.org/drawingml/2006/table">
            <a:tbl>
              <a:tblPr/>
              <a:tblGrid>
                <a:gridCol w="6964560"/>
                <a:gridCol w="1268280"/>
              </a:tblGrid>
              <a:tr h="555480"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муниципальной программы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761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мма,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761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52884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.Муниципальная программа  «Развитие культуры муниципального образования «Ледовский сельсовет» Советского района Курской области на 2015-2020гг"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1146,3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Муниципальная программа «Социальная поддержка граждан  в м.о «Ледовский сельсовет» Советского района Курской области на 2018-2020гг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64,3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«Энергосбережение и повышение энергетической эффективности в МО «Ледовский сельсовет» Советского района Курской области на 2018-2020гг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1,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60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. Муниципальная программа «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YaHei"/>
                        </a:rPr>
                        <a:t>Благоустройство территории муниципального образования «Ледовский сельсовет» Советского района Курской области на 2018-2020гг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50,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YaHei"/>
                        </a:rPr>
                        <a:t>09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YaHei"/>
                          <a:ea typeface="Times New Roman"/>
                        </a:rPr>
                        <a:t>Муниципальная программа «Развитие муниципальной службы  в муниципальном образовании Ледовского сельсовета Советского района Советского района Курской области на 2017-2019гг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4,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Rectangle 55"/>
          <p:cNvSpPr/>
          <p:nvPr/>
        </p:nvSpPr>
        <p:spPr>
          <a:xfrm>
            <a:off x="896760" y="6382440"/>
            <a:ext cx="783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умерация муниципальных программ  указана в соответствии с присвоенными им кодами для отражения в бюджете Ледовского сельсовета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Советского района  Курской области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0000">
    <p:wheel spokes="8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2"/>
          <p:cNvSpPr/>
          <p:nvPr/>
        </p:nvSpPr>
        <p:spPr>
          <a:xfrm>
            <a:off x="642960" y="785880"/>
            <a:ext cx="81979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ходы на реализацию муниципальных программ Ледовского сельсовета Советского района Курской области –1683,2 тыс.рублей, в том числе по направлениям: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00040" y="2071800"/>
          <a:ext cx="8232840" cy="3995640"/>
        </p:xfrm>
        <a:graphic>
          <a:graphicData uri="http://schemas.openxmlformats.org/drawingml/2006/table">
            <a:tbl>
              <a:tblPr/>
              <a:tblGrid>
                <a:gridCol w="6639120"/>
                <a:gridCol w="1593720"/>
              </a:tblGrid>
              <a:tr h="547920"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государственной программы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761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мма, 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3300"/>
                        </a:gs>
                        <a:gs pos="100000">
                          <a:srgbClr val="7618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54764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YaHei"/>
                        </a:rPr>
                        <a:t>13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YaHei"/>
                          <a:ea typeface="Times New Roman"/>
                        </a:rPr>
                        <a:t>Муниципальная программа  «Защита населения и территории от чрезвычайных ситуаций, обеспечение пожарной безопасности и безопасности людей на водных объектах» в муниципальном образовании «Ледовский сельсовет» Советского района Курской области на 2018-2020гг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108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6,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00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«Развитие и использование информационных и телекоммуникационных технологий в муниципальном образовании «Ледовский сельсовет» Советского района Курской области на 2015-2020гг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115,7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1040">
                <a:tc>
                  <a:txBody>
                    <a:bodyPr lIns="90000" rIns="90000" tIns="723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ниципальная программа «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Microsoft YaHei"/>
                        </a:rPr>
                        <a:t>Развитие и укрепление материально-технической базы муниципального образования «Ледовский сельсовет Советского района Курской области» на 2016-2020 гг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295,5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0000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374760" y="631800"/>
            <a:ext cx="83944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</a:rPr>
              <a:t>Муниципальный долг Ледовского сельсовета Советского района Курской области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4638600" y="2914560"/>
            <a:ext cx="3848040" cy="31417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3"/>
          <p:cNvSpPr/>
          <p:nvPr/>
        </p:nvSpPr>
        <p:spPr>
          <a:xfrm>
            <a:off x="679320" y="3214800"/>
            <a:ext cx="7321680" cy="11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 u="sng">
                <a:solidFill>
                  <a:srgbClr val="003366"/>
                </a:solidFill>
                <a:uFillTx/>
                <a:latin typeface="Times New Roman"/>
              </a:rPr>
              <a:t>Расходы на обслуживание муниципального долга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 algn="just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214720" y="3786120"/>
          <a:ext cx="4143240" cy="2286000"/>
        </p:xfrm>
        <a:graphic>
          <a:graphicData uri="http://schemas.openxmlformats.org/drawingml/2006/table">
            <a:tbl>
              <a:tblPr/>
              <a:tblGrid>
                <a:gridCol w="4143240"/>
              </a:tblGrid>
              <a:tr h="816120">
                <a:tc>
                  <a:txBody>
                    <a:bodyPr tIns="684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9240">
                <a:tc>
                  <a:txBody>
                    <a:bodyPr tIns="5148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3333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620640">
                <a:tc>
                  <a:txBody>
                    <a:bodyPr tIns="684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91" name="Text Box 29"/>
          <p:cNvSpPr/>
          <p:nvPr/>
        </p:nvSpPr>
        <p:spPr>
          <a:xfrm>
            <a:off x="571680" y="1969920"/>
            <a:ext cx="47145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300" spc="-1" strike="noStrike" u="sng">
                <a:solidFill>
                  <a:srgbClr val="660066"/>
                </a:solidFill>
                <a:uFillTx/>
                <a:latin typeface="Microsoft YaHei"/>
              </a:rPr>
              <a:t>Муниципальный долг</a:t>
            </a:r>
            <a:r>
              <a:rPr b="0" i="1" lang="ru-RU" sz="1300" spc="-1" strike="noStrike">
                <a:solidFill>
                  <a:srgbClr val="800080"/>
                </a:solidFill>
                <a:latin typeface="Microsoft YaHei"/>
              </a:rPr>
              <a:t> – это обязательства, возникающие из муниципальных заимствований (т.е. кредитов, муниципальных ценных бумаг), гарантий по обязательствам третьих лиц, другие обязательства, принятые на себя Ледовским сельсоветом  Советского района Курской области.</a:t>
            </a:r>
            <a:endParaRPr b="1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ccff99"/>
            </a:gs>
            <a:gs pos="100000">
              <a:srgbClr val="bbe0e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685800" y="260280"/>
            <a:ext cx="77724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468360" y="404640"/>
            <a:ext cx="8136000" cy="61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Бюджет для граждан» в доступной для широкого круга пользователей форме раскрывает информацию о бюджете  Ледовского сельсовета Советского района Курской области на 2019 год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ординаторы проекта: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.И.Смирнова– начальник отдела бухгалтерского учета и отчетности Ледовского сельсовета Советского район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формация подготовлена Администрацией Ледовского сельсовета Советского района Курской области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.0000048828125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e3e6"/>
            </a:gs>
            <a:gs pos="100000">
              <a:srgbClr val="ccffcc"/>
            </a:gs>
          </a:gsLst>
          <a:lin ang="18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"/>
          <p:cNvSpPr/>
          <p:nvPr/>
        </p:nvSpPr>
        <p:spPr>
          <a:xfrm>
            <a:off x="468360" y="765000"/>
            <a:ext cx="8218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Контактная информация </a:t>
            </a:r>
            <a:br>
              <a:rPr sz="2800"/>
            </a:b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для взаимодействия с гражданами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alibri"/>
              </a:rPr>
              <a:t>306646, Курская область, Советский район с. Ледовское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alibri"/>
              </a:rPr>
              <a:t>Администрация Ледовского сельсовета Советского района Курской области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alibri"/>
              </a:rPr>
              <a:t>тел.: (47158) 3-35-30 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alibri"/>
              </a:rPr>
              <a:t>Факс: (47158) 3-35-19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alibri"/>
              </a:rPr>
              <a:t>Е</a:t>
            </a:r>
            <a:r>
              <a:rPr b="0" lang="fr-FR" sz="2000" spc="-1" strike="noStrike">
                <a:solidFill>
                  <a:srgbClr val="003366"/>
                </a:solidFill>
                <a:latin typeface="Calibri"/>
              </a:rPr>
              <a:t>-mail:</a:t>
            </a:r>
            <a:r>
              <a:rPr b="0" lang="ru-RU" sz="20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Calibri"/>
              </a:rPr>
              <a:t>ledovskoi306646@mail.ru</a:t>
            </a:r>
            <a:r>
              <a:rPr b="0" lang="ru-RU" sz="2000" spc="-1" strike="noStrike">
                <a:solidFill>
                  <a:srgbClr val="003366"/>
                </a:solidFill>
                <a:latin typeface="Calibri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"/>
          <p:cNvSpPr/>
          <p:nvPr/>
        </p:nvSpPr>
        <p:spPr>
          <a:xfrm>
            <a:off x="395280" y="103320"/>
            <a:ext cx="8291520" cy="1022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cc0000"/>
                </a:solidFill>
                <a:latin typeface="Times New Roman"/>
              </a:rPr>
              <a:t>Что такое бюджет для граждан?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Бюджет для граждан - это упрощенная версия бюджетного документа, которая использует неформальный язык и доступные форматы, чтобы облегчить для граждан понимание бюджета. Он содержит информационно-аналитический материал, доступный для широкого круга неподготовленных пользователей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15000">
    <p:blinds dir="horz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cc0000"/>
                </a:solidFill>
                <a:latin typeface="Times New Roman"/>
              </a:rPr>
              <a:t>Что такое бюджет?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Бюджет – это форма образования и расходования денежных средств, предназначенных для финансового обеспечения задач и функций государства и местного самоуправления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6000">
    <p:wheel spokes="8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1"/>
          <p:cNvSpPr/>
          <p:nvPr/>
        </p:nvSpPr>
        <p:spPr>
          <a:xfrm>
            <a:off x="46836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Основные характеристики бюджета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Доходы – Расходы = Дефицит (Профицит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Дефицит – превышение расходов над доходами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(принимается решение об источниках покрытия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дефицита – использовать остатки, взять в долг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Профицит – превышение доходов над расходами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(принимается решение об использовании доходов –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накапливать резервы, остатки, погашать долг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5000">
    <p:plus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cc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1"/>
          <p:cNvSpPr/>
          <p:nvPr/>
        </p:nvSpPr>
        <p:spPr>
          <a:xfrm>
            <a:off x="539640" y="549360"/>
            <a:ext cx="82296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Microsoft YaHei"/>
              </a:rPr>
              <a:t>Основные характеристики  бюджета Ледовского сельсовета Советского района Курской области              на 201</a:t>
            </a:r>
            <a:r>
              <a:rPr b="0" lang="ru-RU" sz="2600" spc="-1" strike="noStrike">
                <a:solidFill>
                  <a:srgbClr val="cc0000"/>
                </a:solidFill>
                <a:latin typeface="Times New Roman"/>
              </a:rPr>
              <a:t>9</a:t>
            </a:r>
            <a:r>
              <a:rPr b="0" lang="ru-RU" sz="2600" spc="-1" strike="noStrike">
                <a:solidFill>
                  <a:srgbClr val="cc0000"/>
                </a:solidFill>
                <a:latin typeface="Microsoft YaHei"/>
              </a:rPr>
              <a:t> год </a:t>
            </a:r>
            <a:br>
              <a:rPr sz="2600"/>
            </a:br>
            <a:endParaRPr b="1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-57240" y="4827600"/>
            <a:ext cx="246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928800" y="2060640"/>
          <a:ext cx="7073640" cy="3827520"/>
        </p:xfrm>
        <a:graphic>
          <a:graphicData uri="http://schemas.openxmlformats.org/drawingml/2006/table">
            <a:tbl>
              <a:tblPr/>
              <a:tblGrid>
                <a:gridCol w="4838760"/>
                <a:gridCol w="2234880"/>
              </a:tblGrid>
              <a:tr h="400320">
                <a:tc>
                  <a:txBody>
                    <a:bodyPr lIns="90000" rIns="90000" tIns="7992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596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(тыс. рублей)</a:t>
                      </a:r>
                      <a:endParaRPr b="1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520">
                <a:tc>
                  <a:txBody>
                    <a:bodyPr lIns="90000" rIns="90000" tIns="7992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66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35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Утверждено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280">
                <a:tc>
                  <a:txBody>
                    <a:bodyPr lIns="90000" rIns="90000" tIns="9108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Доходы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99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592,6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280">
                <a:tc>
                  <a:txBody>
                    <a:bodyPr lIns="90000" rIns="90000" tIns="9108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Расходы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99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814,1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1120">
                <a:tc>
                  <a:txBody>
                    <a:bodyPr lIns="90000" rIns="90000" tIns="9108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Дефицит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992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21,5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11000">
    <p:push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"/>
          <p:cNvSpPr/>
          <p:nvPr/>
        </p:nvSpPr>
        <p:spPr>
          <a:xfrm>
            <a:off x="46836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Times New Roman"/>
              </a:rPr>
              <a:t>Доходы бюджета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AutoShape 2"/>
          <p:cNvSpPr/>
          <p:nvPr/>
        </p:nvSpPr>
        <p:spPr>
          <a:xfrm>
            <a:off x="3132000" y="1341360"/>
            <a:ext cx="2778120" cy="24685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66ff"/>
              </a:gs>
              <a:gs pos="100000">
                <a:srgbClr val="cc0000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</a:rPr>
              <a:t>ДОХОДЫ</a:t>
            </a:r>
            <a:endParaRPr b="1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</a:rPr>
              <a:t>БЮДЖЕТ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безвозмездные и безвозвратные поступления денежных средств в бюджет </a:t>
            </a:r>
            <a:endParaRPr b="1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Oval 3"/>
          <p:cNvSpPr/>
          <p:nvPr/>
        </p:nvSpPr>
        <p:spPr>
          <a:xfrm>
            <a:off x="395280" y="1125360"/>
            <a:ext cx="2556000" cy="2559240"/>
          </a:xfrm>
          <a:prstGeom prst="ellipse">
            <a:avLst/>
          </a:prstGeom>
          <a:gradFill rotWithShape="0">
            <a:gsLst>
              <a:gs pos="0">
                <a:srgbClr val="3366ff"/>
              </a:gs>
              <a:gs pos="100000">
                <a:srgbClr val="d6e0ff"/>
              </a:gs>
            </a:gsLst>
            <a:lin ang="135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 u="sng">
                <a:solidFill>
                  <a:srgbClr val="000000"/>
                </a:solidFill>
                <a:uFillTx/>
                <a:latin typeface="Times New Roman"/>
              </a:rPr>
              <a:t>НАЛОГОВЫЕ ДОХОДЫ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оступления от уплаты налогов, установленных Налоговым кодексом Российской Федерации, например: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- налог на доходы физических лиц; -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алоги на имущество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государственная пошлина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алоги на совокупный доход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- другие.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Oval 4"/>
          <p:cNvSpPr/>
          <p:nvPr/>
        </p:nvSpPr>
        <p:spPr>
          <a:xfrm>
            <a:off x="6300720" y="1268280"/>
            <a:ext cx="2556000" cy="2559240"/>
          </a:xfrm>
          <a:prstGeom prst="ellipse">
            <a:avLst/>
          </a:prstGeom>
          <a:gradFill rotWithShape="0">
            <a:gsLst>
              <a:gs pos="0">
                <a:srgbClr val="ffccff"/>
              </a:gs>
              <a:gs pos="100000">
                <a:srgbClr val="ff00ff"/>
              </a:gs>
            </a:gsLst>
            <a:lin ang="81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 u="sng">
                <a:solidFill>
                  <a:srgbClr val="000000"/>
                </a:solidFill>
                <a:uFillTx/>
                <a:latin typeface="Times New Roman"/>
              </a:rPr>
              <a:t>БЕЗВОЗМЕЗДНЫЕ ПОСТУПЛЕНИЯ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оступления в бюджет на безвозмездной и безвозвратной основе из областного бюджета (дотации, субсидии, субвенции), а также перечисления от физических и юридических лиц (кроме налоговых и неналоговых доходов)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Oval 5"/>
          <p:cNvSpPr/>
          <p:nvPr/>
        </p:nvSpPr>
        <p:spPr>
          <a:xfrm>
            <a:off x="3132000" y="4076640"/>
            <a:ext cx="2808360" cy="263376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fcccc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 u="sng">
                <a:solidFill>
                  <a:srgbClr val="000000"/>
                </a:solidFill>
                <a:uFillTx/>
                <a:latin typeface="Times New Roman"/>
              </a:rPr>
              <a:t>НЕНАЛОГОВЫЕ ДОХОДЫ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оступления от уплаты других пошлин и сборов, установленных законодательством Российской Федерации, а также штрафов за нарушение законодательства, например: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доходы от использования муниципального имущества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лата за негативное воздействие на окружающую среду;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другие.</a:t>
            </a:r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Line 6"/>
          <p:cNvSpPr/>
          <p:nvPr/>
        </p:nvSpPr>
        <p:spPr>
          <a:xfrm>
            <a:off x="2916360" y="2637000"/>
            <a:ext cx="760320" cy="226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Line 7"/>
          <p:cNvSpPr/>
          <p:nvPr/>
        </p:nvSpPr>
        <p:spPr>
          <a:xfrm flipH="1">
            <a:off x="5432040" y="2637000"/>
            <a:ext cx="871560" cy="298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Line 8"/>
          <p:cNvSpPr/>
          <p:nvPr/>
        </p:nvSpPr>
        <p:spPr>
          <a:xfrm flipV="1">
            <a:off x="4500720" y="3786120"/>
            <a:ext cx="1440" cy="29376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8000">
    <p:split dir="out" orient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1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700" spc="-1" strike="noStrike">
                <a:solidFill>
                  <a:srgbClr val="000099"/>
                </a:solidFill>
                <a:latin typeface="Times New Roman"/>
              </a:rPr>
              <a:t>Распределение налоговых доходов между бюджетами на территории Курской области</a:t>
            </a:r>
            <a:endParaRPr b="1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0" y="357120"/>
          <a:ext cx="9110520" cy="6340680"/>
        </p:xfrm>
        <a:graphic>
          <a:graphicData uri="http://schemas.openxmlformats.org/drawingml/2006/table">
            <a:tbl>
              <a:tblPr/>
              <a:tblGrid>
                <a:gridCol w="738360"/>
                <a:gridCol w="4860720"/>
                <a:gridCol w="878040"/>
                <a:gridCol w="804600"/>
                <a:gridCol w="1024200"/>
                <a:gridCol w="804600"/>
              </a:tblGrid>
              <a:tr h="204120">
                <a:tc gridSpan="2" rowSpan="2">
                  <a:txBody>
                    <a:bodyPr lIns="90000" rIns="90000" tIns="583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и и сборы, установленные законодательством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Уровни бюджета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66ff"/>
                        </a:gs>
                        <a:gs pos="100000">
                          <a:srgbClr val="66ffff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89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бластной бюджет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Бюджеты городских округов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Бюджеты муниципальных районов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Бюджеты городских и сельских поселений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18160">
                <a:tc rowSpan="20">
                  <a:txBody>
                    <a:bodyPr lIns="90000" rIns="90000" tIns="583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Федеральные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. Налог на прибыль организаций по ставке, установленной для субъектов Российской Федерации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. Налог на доходы физических лиц, в том числе: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36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 на доходы физических лиц, кроме налога на доходы физических лиц, являющихся иностранными гражданами, осуществляющими трудовую деятельность по найму у физических лиц на основании патента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5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5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322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 на доходы физических лиц, являющихся иностранными гражданами, осуществляющими трудовую деятельность по найму у физических лиц на основании патента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. Акцизы, в том числе: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кцизы на спирт этиловый из пищевого сырья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кцизы на спиртосодержащую продукцию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кцизы на  алкогольную продукцию (пиво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Акцизы на алкогольную продукцию (без пива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0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Доходы от уплаты акцизов на нефтепродукты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 gridSpan="3"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. Налоги со специальными налоговыми режимами, в том числе: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, взимаемый в связи с применением упрощенной системы налогообложения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Единый налог на вмененный доход для отдельных видов деятельности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Единый сельскохозяйственный налог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, взимаемый в связи с применением патентной системы налогообложения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. Налог на добычу полезных ископаемых, в том числе: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 на добычу общераспространенных полезных ископаемых (песок, глина, мел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лог на добычу прочих полезных ископаемых (железная руда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4440" bIns="46800" anchor="ctr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. Сборы за пользование объектами животного мира (олень, лось, косуля, кабан, барсук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0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. Государственная пошлина (в зависимости от установленных полномочий)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rowSpan="3">
                  <a:txBody>
                    <a:bodyPr lIns="36000" rIns="36000" tIns="47520" bIns="36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Региональные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. Налог на имущество организаций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. Налог на игорный бизнес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. Транспортный налог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rowSpan="2">
                  <a:txBody>
                    <a:bodyPr lIns="90000" rIns="90000" tIns="583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Местные</a:t>
                      </a:r>
                      <a:endParaRPr b="1" lang="en-US" sz="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66ffff"/>
                        </a:gs>
                        <a:gs pos="100000">
                          <a:srgbClr val="0066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. Налог на имущество физических лиц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  <a:tr h="21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60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. Земельный налог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6012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1" lang="en-US" sz="7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advTm="10000">
    <p:push dir="u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Microsoft YaHei"/>
              </a:rPr>
              <a:t>Структура расходов бюджета Ледовского сельсовета </a:t>
            </a:r>
            <a:br>
              <a:rPr sz="1600"/>
            </a:br>
            <a:r>
              <a:rPr b="0" lang="ru-RU" sz="1600" spc="-1" strike="noStrike">
                <a:solidFill>
                  <a:srgbClr val="cc0000"/>
                </a:solidFill>
                <a:latin typeface="Microsoft YaHei"/>
              </a:rPr>
              <a:t>Советского района Курской области </a:t>
            </a:r>
            <a:br>
              <a:rPr sz="1600"/>
            </a:br>
            <a:r>
              <a:rPr b="0" lang="ru-RU" sz="1600" spc="-1" strike="noStrike">
                <a:solidFill>
                  <a:srgbClr val="cc0000"/>
                </a:solidFill>
                <a:latin typeface="Microsoft YaHei"/>
              </a:rPr>
              <a:t>по разделам функциональной классификации на 201</a:t>
            </a:r>
            <a:r>
              <a:rPr b="0" lang="ru-RU" sz="1600" spc="-1" strike="noStrike">
                <a:solidFill>
                  <a:srgbClr val="cc0000"/>
                </a:solidFill>
                <a:latin typeface="Times New Roman"/>
              </a:rPr>
              <a:t>9</a:t>
            </a:r>
            <a:r>
              <a:rPr b="0" lang="ru-RU" sz="1600" spc="-1" strike="noStrike">
                <a:solidFill>
                  <a:srgbClr val="cc0000"/>
                </a:solidFill>
                <a:latin typeface="Microsoft YaHei"/>
              </a:rPr>
              <a:t> год </a:t>
            </a: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571760" y="1071720"/>
          <a:ext cx="6715080" cy="5159160"/>
        </p:xfrm>
        <a:graphic>
          <a:graphicData uri="http://schemas.openxmlformats.org/drawingml/2006/table">
            <a:tbl>
              <a:tblPr/>
              <a:tblGrid>
                <a:gridCol w="647640"/>
                <a:gridCol w="3097080"/>
                <a:gridCol w="2970360"/>
              </a:tblGrid>
              <a:tr h="29916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лей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дел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6 год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4747"/>
                        </a:gs>
                        <a:gs pos="100000">
                          <a:srgbClr val="ff99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25520">
                <a:tc>
                  <a:txBody>
                    <a:bodyPr lIns="90000" rIns="90000" tIns="684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84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14,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299160">
                <a:tc>
                  <a:txBody>
                    <a:bodyPr lIns="90000" rIns="90000" tIns="684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84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ом числе: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1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396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68,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5684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оборона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77,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5504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564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9420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,4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516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разование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5460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льтура, кинематография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46,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552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,3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21560">
                <a:tc>
                  <a:txBody>
                    <a:bodyPr lIns="90000" rIns="90000" tIns="69480" bIns="46800" anchor="b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0</a:t>
                      </a:r>
                      <a:endParaRPr b="1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p:transition spd="med" advTm="20000">
    <p:cover dir="rd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Microsoft YaHei"/>
                <a:ea typeface="Times New Roman"/>
              </a:rPr>
              <a:t>Расходы бюджета Ледовского сельсовета Советского района Курской области на культуру в 201</a:t>
            </a:r>
            <a:r>
              <a:rPr b="0" lang="ru-RU" sz="2000" spc="-1" strike="noStrike">
                <a:solidFill>
                  <a:srgbClr val="009900"/>
                </a:solidFill>
                <a:latin typeface="Arial"/>
                <a:ea typeface="Times New Roman"/>
              </a:rPr>
              <a:t>9</a:t>
            </a:r>
            <a:r>
              <a:rPr b="0" lang="ru-RU" sz="2000" spc="-1" strike="noStrike">
                <a:solidFill>
                  <a:srgbClr val="009900"/>
                </a:solidFill>
                <a:latin typeface="Microsoft YaHei"/>
                <a:ea typeface="Times New Roman"/>
              </a:rPr>
              <a:t> году </a:t>
            </a:r>
            <a:r>
              <a:rPr b="0" lang="ru-RU" sz="2000" spc="-1" strike="noStrike">
                <a:solidFill>
                  <a:srgbClr val="cc0000"/>
                </a:solidFill>
                <a:latin typeface="Microsoft YaHei"/>
                <a:ea typeface="Times New Roman"/>
              </a:rPr>
              <a:t>–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  <a:ea typeface="Times New Roman"/>
              </a:rPr>
              <a:t>1146,3</a:t>
            </a:r>
            <a:r>
              <a:rPr b="0" lang="ru-RU" sz="2000" spc="-1" strike="noStrike">
                <a:solidFill>
                  <a:srgbClr val="cc0000"/>
                </a:solidFill>
                <a:latin typeface="Microsoft YaHei"/>
                <a:ea typeface="Times New Roman"/>
              </a:rPr>
              <a:t> тыс. рубле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Содержимое 6"/>
          <p:cNvGraphicFramePr/>
          <p:nvPr/>
        </p:nvGraphicFramePr>
        <p:xfrm>
          <a:off x="534960" y="1211400"/>
          <a:ext cx="8323200" cy="424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" name="Содержимое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4960" y="1211400"/>
                    <a:ext cx="8323200" cy="42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9T11:34:59Z</dcterms:created>
  <dc:creator/>
  <dc:description/>
  <dc:language>en-US</dc:language>
  <cp:lastModifiedBy>user</cp:lastModifiedBy>
  <dcterms:modified xsi:type="dcterms:W3CDTF">2019-12-30T13:56:18Z</dcterms:modified>
  <cp:revision>456</cp:revision>
  <dc:subject/>
  <dc:title>Слайд 1</dc:title>
</cp:coreProperties>
</file>