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2BFCA-2765-4178-8B87-4597ECA3A4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BD22B-2E4B-4EB9-B5FB-FEAB814A91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830AA-FD34-4675-A676-4970FDCE5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207AE-D8C2-4B99-BC1E-318D6C76E6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68CC4-70E7-4F6F-AD71-8669CD7336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2C426-F333-4CDC-8C7F-868442E288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2F8B-D286-4E53-8820-810085DD82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D9BEB-B1A5-4E6F-9380-6BA564AEF6D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C29F9-6A57-488A-8940-CD03B5B696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BCEEF-8F36-4A2D-996B-3C2514E8D8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723E3-A405-42D1-8AA0-0FF4D64F85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E094D-1F60-472D-8A80-04455278E1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D2C96-E7A9-4827-8907-39DF750DE9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D593-CE69-49E5-9016-99CA8F12F1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A412D-2190-47A9-8B5B-0BCD52DC38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2123-EE23-4803-A9A6-A053A546AB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F0693-5DC0-4D1B-9950-26C55D16088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743F-0AFC-4318-8E50-CE3297F48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D77D-2795-4B6B-963F-7AF0E1BCF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6E69-9CD8-426F-8B66-423E71363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6FC9-1C24-48B9-A13E-71B7BB6FD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78BA-3A48-4111-B0AB-19C42A473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A7C2-03E3-4504-844A-0E37CDCC0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960B-FE09-4EE6-ABA8-C31F1B9DF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AC38-A9C9-48EC-BC3C-BF625E8D3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7148-4BAA-4039-BB57-43AF71D5F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DDFE-2BDA-4AB6-88C8-576A37017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015E-B67A-4963-AB0A-DA0F0EB36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6323-3B6B-4033-AB9D-90EB43664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4CC80D-0098-4111-B7B6-9F8209F73153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проекту решения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исполнении бюджет</a:t>
            </a:r>
            <a:r>
              <a:rPr b="0" lang="ru-RU" sz="1200" spc="-1" strike="noStrike">
                <a:solidFill>
                  <a:srgbClr val="0066ff"/>
                </a:solidFill>
                <a:latin typeface="Microsoft YaHei"/>
              </a:rPr>
              <a:t>а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Ледовского сельсовета Советского района  Курской области за 20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0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0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9,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9,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0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3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9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4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0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2459,4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46018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2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Развитие муниципальной службы  в муниципальном образовании Ледовского сельсовета Советского района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13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14. Муниципальная программа  «Повышение эффективности управления муниципальными финансами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2459,5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243828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363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,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</a:t>
            </a:r>
            <a:r>
              <a:rPr b="0" lang="ru-RU" sz="2000" spc="-1" strike="noStrike">
                <a:solidFill>
                  <a:srgbClr val="000000"/>
                </a:solidFill>
                <a:latin typeface="Microsoft YaHei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2020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Исполнение  бюджета Ледовского сельсовета Советского района Курской области з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0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3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5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за 2020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3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1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1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9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0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1221,8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3232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2-02-22T10:36:09Z</dcterms:modified>
  <cp:revision>466</cp:revision>
  <dc:subject/>
  <dc:title>Слайд 1</dc:title>
</cp:coreProperties>
</file>