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0EE0F-3278-4840-B10C-11BB6386426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7DB37-3D0A-402C-AFC7-CF64853ACE7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49ED3-35EA-4C7A-B82A-1ACFA23A0A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FD063-478E-4C19-9710-C8CE77657BE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526B8-2C0C-4CA4-A7CB-EB51F9A9BF7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CF869-6BF7-497C-84B5-95777A33301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8EA51-9F0F-4090-A8BB-24C8FC68BA6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6F2D1-00FC-4948-9E7E-C98B3DBE2D6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EEFF1-C910-4A6F-AB85-5FD5DB6670A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83CB1-B295-4CD0-9B71-AB9F404D489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82172-80A8-49C0-8BF1-E0EC4D973A0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ADD30-820B-4C3F-8C64-AD2F9890703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EAF91-2077-473B-A1FC-21EAF0185E0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2D03D-E608-4A8D-AF94-178143E1483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2C29B-8481-4E9E-BC6B-8C653A8EF76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7DD24-5A97-48E1-84F5-E7ED9A74FF1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D3969-30B2-49CB-9D09-9CA07AFE77E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786A-3D14-40BB-9BEC-05095E12C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EB39-96A7-4636-B840-59CB5B87E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C4EC-CA0D-45B8-A834-B26B66894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6EBD-85F8-4DD0-9434-5740625C4E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C476-98E9-4E78-B798-D82ECBE90E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4DC3-4AD5-4972-BF66-30873EE92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C79E-26FF-45FC-9C9F-295C6EB43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9EDB-3E5B-48A6-9CA6-2F29E5BE7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16B8-C4BE-44CA-8652-69FA567D5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7BBB-D3E4-4299-987E-C71F9AA4E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A367-E3A4-4BEF-B0FC-C7628130F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664AA-CAD1-4B1B-9EC9-450B6FC14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F254B6-8D0B-4CD9-BA05-18F1919FCF1A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ЛЕДОВСКОГО СЕЛЬСОВЕТА СОВЕТСКОГО РАЙОНА КУРСКОЙ ОБЛАСТИ НА 20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1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решению Собрания  депутатов  Ледовского се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т 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14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.12.20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20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года № 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 бюджете  Ледовского сельсовета Советского района  Курской области на 202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год и  плановый период 2021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и 202</a:t>
            </a: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годов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5840" y="2000160"/>
          <a:ext cx="8753400" cy="2702160"/>
        </p:xfrm>
        <a:graphic>
          <a:graphicData uri="http://schemas.openxmlformats.org/drawingml/2006/table">
            <a:tbl>
              <a:tblPr/>
              <a:tblGrid>
                <a:gridCol w="6432480"/>
                <a:gridCol w="1285920"/>
                <a:gridCol w="1035000"/>
              </a:tblGrid>
              <a:tr h="839880"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1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348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36000" rIns="36000" tIns="66240" bIns="36000" anchor="t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Выплата пенсий за выслугу лет и доплат к пенсиям муниципальных служащих Ледовского сельсовета Советского район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,6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1480">
                <a:tc gridSpan="2"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,6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Ледов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1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14200" y="1143000"/>
          <a:ext cx="8288280" cy="5143680"/>
        </p:xfrm>
        <a:graphic>
          <a:graphicData uri="http://schemas.openxmlformats.org/drawingml/2006/table">
            <a:tbl>
              <a:tblPr/>
              <a:tblGrid>
                <a:gridCol w="5418360"/>
                <a:gridCol w="1650960"/>
                <a:gridCol w="1218960"/>
              </a:tblGrid>
              <a:tr h="63504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5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8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Ледов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1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4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Ледов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21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571680" y="785880"/>
            <a:ext cx="826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 1671,4 тыс. 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9640" y="1773360"/>
          <a:ext cx="8232840" cy="3728880"/>
        </p:xfrm>
        <a:graphic>
          <a:graphicData uri="http://schemas.openxmlformats.org/drawingml/2006/table">
            <a:tbl>
              <a:tblPr/>
              <a:tblGrid>
                <a:gridCol w="6964560"/>
                <a:gridCol w="1268280"/>
              </a:tblGrid>
              <a:tr h="5554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88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Муниципальная программа  «Развитие культур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8,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униципальная программа «Социальная поддержка граждан  в м.о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4,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Энергосбережение и повышение энергетической эффективности в МО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 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Благоустройство территории муниципального образования «Ледовский сельсовет»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0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Развитие муниципальной службы  в муниципальном образовании Ледовского сельсовета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5"/>
          <p:cNvSpPr/>
          <p:nvPr/>
        </p:nvSpPr>
        <p:spPr>
          <a:xfrm>
            <a:off x="896760" y="6382440"/>
            <a:ext cx="783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умерация муниципальных программ  указана в соответствии с присвоенными им кодами для отражения в бюджете Ледовского сельсовет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ветского района  Курской област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42960" y="785880"/>
            <a:ext cx="8197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1671,4 тыс.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0040" y="2071800"/>
          <a:ext cx="8232840" cy="4002120"/>
        </p:xfrm>
        <a:graphic>
          <a:graphicData uri="http://schemas.openxmlformats.org/drawingml/2006/table">
            <a:tbl>
              <a:tblPr/>
              <a:tblGrid>
                <a:gridCol w="6639120"/>
                <a:gridCol w="1593720"/>
              </a:tblGrid>
              <a:tr h="56520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6348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13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в муниципальном образовани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Ледовский сельсов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муниципальном образовании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,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Развитие и укрепление материально-технической баз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Ледов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14720" y="3786120"/>
          <a:ext cx="4143240" cy="228600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,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29"/>
          <p:cNvSpPr/>
          <p:nvPr/>
        </p:nvSpPr>
        <p:spPr>
          <a:xfrm>
            <a:off x="571680" y="1969920"/>
            <a:ext cx="4714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Microsoft YaHei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–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Ледов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Ледовского сельсовета Советского района Курской области на 2021 год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И.Смирнова– начальник отдела бухгалтерского учета и отчетности Ледовс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Лед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306646, Курская область, Советский район с. Ледовское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Администрация Ледов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тел.: (47158) 3-35-30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Факс: (47158) 3-35-1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Calibri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Calibri"/>
              </a:rPr>
              <a:t>ledovskoi306646@mail.ru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Основные характеристики  бюджета Ледовского сельсовета Советского района Курской области на 20</a:t>
            </a:r>
            <a:r>
              <a:rPr b="0" lang="en-US" sz="2600" spc="-1" strike="noStrike">
                <a:solidFill>
                  <a:srgbClr val="cc0000"/>
                </a:solidFill>
                <a:latin typeface="Microsoft YaHei"/>
              </a:rPr>
              <a:t>21</a:t>
            </a: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 год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2060640"/>
          <a:ext cx="7073640" cy="3827520"/>
        </p:xfrm>
        <a:graphic>
          <a:graphicData uri="http://schemas.openxmlformats.org/drawingml/2006/table">
            <a:tbl>
              <a:tblPr/>
              <a:tblGrid>
                <a:gridCol w="4838760"/>
                <a:gridCol w="223488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79</a:t>
                      </a: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855,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23,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труктура расходов бюджета Ледовс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по разделам функциональной классификации на 2021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71760" y="1071720"/>
          <a:ext cx="6715080" cy="5151240"/>
        </p:xfrm>
        <a:graphic>
          <a:graphicData uri="http://schemas.openxmlformats.org/drawingml/2006/table">
            <a:tbl>
              <a:tblPr/>
              <a:tblGrid>
                <a:gridCol w="647640"/>
                <a:gridCol w="3097080"/>
                <a:gridCol w="297036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552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5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4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5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6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8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4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Microsoft YaHei"/>
                <a:ea typeface="Times New Roman"/>
              </a:rPr>
              <a:t>Расходы бюджета Ледовского сельсовета Советского района Курской области на культуру в 2021 году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–1098,8</a:t>
            </a:r>
            <a:r>
              <a:rPr b="0" lang="ru-RU" sz="2000" spc="-1" strike="noStrike">
                <a:solidFill>
                  <a:srgbClr val="cc0000"/>
                </a:solidFill>
                <a:latin typeface="Microsoft YaHei"/>
                <a:ea typeface="Times New Roman"/>
              </a:rPr>
              <a:t> тыс. руб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одержимое 6" descr=""/>
          <p:cNvPicPr/>
          <p:nvPr/>
        </p:nvPicPr>
        <p:blipFill>
          <a:blip r:embed="rId1"/>
          <a:stretch/>
        </p:blipFill>
        <p:spPr>
          <a:xfrm>
            <a:off x="534960" y="1211400"/>
            <a:ext cx="83232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>ledovskoi306646@mail.ru</cp:lastModifiedBy>
  <dcterms:modified xsi:type="dcterms:W3CDTF">2021-05-26T08:45:30Z</dcterms:modified>
  <cp:revision>461</cp:revision>
  <dc:subject/>
  <dc:title>Слайд 1</dc:title>
</cp:coreProperties>
</file>