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1FC40-6205-4294-A208-7F8CA7FB634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EE762-E09A-4E06-9E9F-0D70A317D18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620D8-38A5-44A4-8A20-2C71720C4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80F49-5B61-4628-9026-66349F70E81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00C01-9B9D-477A-93E5-3DEC58FA8B6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677F8-5026-47A2-9D8F-5E4D6839F8F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CFEE5-1CD7-4E38-85A7-18AD2B3A4B4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985AE-BE2B-42A9-9597-5A5055796D6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B0DB0-3B15-4A1F-B8DF-073F9828AA5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47307-EF9E-4C04-8A00-BB364CA12EA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EE478-F458-4881-8A4A-BE05C292A5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0B35A-DD67-4D8D-8E0D-4B8DD98B58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974A8-E614-4306-A294-AF382075ECA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ECF6D-4CEC-430F-AE3A-664A9DBF31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C0EA1-8196-4F88-9611-FAFA88D17F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65D36-8FB3-45EC-AC19-9592D1C33F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29812-6825-4E6E-AE53-CDBA5E8F02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B3DC-EF3F-4B79-97E1-AF1980EEB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F186-2CA5-490C-8004-D025B2712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A2DE-F12C-4D32-93E4-0AC289D65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DFA1-A80E-4C6D-85C8-FB2E193A34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D6C5-A985-4615-8A9E-323D90045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DA49-EAA1-4A7C-B69C-C85868440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87EE-B29B-442A-92E4-3ABBA6854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0607-DF62-4653-B52E-8F183A85D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1FCE-70AA-46A3-8B70-8A4BEE9FD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E274-A7B0-41E9-902D-45C61BF78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22C9-DA27-42AD-8CA4-12A4762D9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BD06-5279-4CAD-A12B-CAF3C1334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DF9A6D-9AE4-41C3-AF7D-B28401B8DF62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14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.12.20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20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года № 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Ледовского сельсовета Советского района  Курской области на 202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год и  плановый период 2021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и 202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398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1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,6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,6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1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1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4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1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1671,4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232840" cy="372888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8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0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Развитие муниципальной службы  в муниципальном образовании Ледовского сельсовета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1671,4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2071800"/>
          <a:ext cx="8232840" cy="400212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634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в муниципальном образован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Ледовский сельсов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–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на 2021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Основные характеристики  бюджета Ледовского сельсовета Советского района Курской области на 20</a:t>
            </a:r>
            <a:r>
              <a:rPr b="0" lang="en-US" sz="2600" spc="-1" strike="noStrike">
                <a:solidFill>
                  <a:srgbClr val="cc0000"/>
                </a:solidFill>
                <a:latin typeface="Microsoft YaHei"/>
              </a:rPr>
              <a:t>21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79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55,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23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на 2021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4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8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21 году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–1098,8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6" descr=""/>
          <p:cNvPicPr/>
          <p:nvPr/>
        </p:nvPicPr>
        <p:blipFill>
          <a:blip r:embed="rId1"/>
          <a:stretch/>
        </p:blipFill>
        <p:spPr>
          <a:xfrm>
            <a:off x="534960" y="1211400"/>
            <a:ext cx="8323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ledovskoi306646@mail.ru</cp:lastModifiedBy>
  <dcterms:modified xsi:type="dcterms:W3CDTF">2021-05-26T08:45:30Z</dcterms:modified>
  <cp:revision>461</cp:revision>
  <dc:subject/>
  <dc:title>Слайд 1</dc:title>
</cp:coreProperties>
</file>