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DDEFA-9B16-4294-9024-BAEBB994E80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2C27E-D3BE-4491-9B0B-2D4E6D78971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74881-9652-4F5D-AFFD-903EEA3BF5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E5E6A-09C9-47C4-BAB0-EC38191D7D1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7F378-BCE4-42E1-8EA5-180A70E3CA4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5C0A8-0185-4124-BB7B-2DB236B09C0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F27D5-118B-48FA-8AE3-A50C4A084D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E4357-0830-41E4-8CD5-3E8CF0E41AC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BD1FF-576A-4426-81AE-5ED03F30DF2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95320-1E40-47C8-9EA1-CB19F145439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B7CDA-0875-446E-BF2D-16985057BD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1BF94-E18B-4B5A-A951-ADDC7C3EEBA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DC024-0A97-4F95-BC90-B29355C7C4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98E96-B7EF-4CE2-98F5-D9333040273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81052-0889-4FC2-8734-53C819BE6F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5E971-01E6-48FA-98F3-82631E03B8A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ADF64-4652-41D4-83CD-FCC43F1A6B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9A1E-925E-4569-9BFB-D3CCCC1BA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FE8B-0DF9-42B5-A2C5-9F915863B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7F83-4218-431D-96C3-328D040A3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4BC8-CF1D-4E0B-915B-E21087FE33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490B-3428-4320-908B-EF88A3026A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6542-3C58-4E99-8A25-8F073CE8D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63AA-45C1-4D60-9659-975CA0431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C120-95A3-46C2-9105-08C4939C4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A454-5EC1-4DD0-BE77-5BAEFE9F4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D6AE-366C-411F-AD64-DEB2B7067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2F20-2225-4CD0-B484-DF7F65D4A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3D64-45EE-4EB4-A61B-6048988C9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A91388-FD2D-47D3-B5CA-FA65923B4938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проекту решения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б исполнении бюджет</a:t>
            </a:r>
            <a:r>
              <a:rPr b="0" lang="ru-RU" sz="1200" spc="-1" strike="noStrike">
                <a:solidFill>
                  <a:srgbClr val="0066ff"/>
                </a:solidFill>
                <a:latin typeface="Microsoft YaHei"/>
              </a:rPr>
              <a:t>а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Ледовского сельсовета Советского района  Курской области за 2021 год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398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1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1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4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6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68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1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2436,9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232840" cy="232704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2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2436,9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2071800"/>
          <a:ext cx="8232840" cy="400212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634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в муниципальном образован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Ледовский сельсов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–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на 2021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Основные характеристики  бюджета Ледовского сельсовета Советского района Курской области на 20</a:t>
            </a:r>
            <a:r>
              <a:rPr b="0" lang="en-US" sz="2600" spc="-1" strike="noStrike">
                <a:solidFill>
                  <a:srgbClr val="cc0000"/>
                </a:solidFill>
                <a:latin typeface="Microsoft YaHei"/>
              </a:rPr>
              <a:t>21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892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04,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212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на 2021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4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2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21 году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–1262,2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6" descr=""/>
          <p:cNvPicPr/>
          <p:nvPr/>
        </p:nvPicPr>
        <p:blipFill>
          <a:blip r:embed="rId1"/>
          <a:stretch/>
        </p:blipFill>
        <p:spPr>
          <a:xfrm>
            <a:off x="534960" y="1211400"/>
            <a:ext cx="8323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ledovskoi306646@mail.ru</cp:lastModifiedBy>
  <dcterms:modified xsi:type="dcterms:W3CDTF">2023-02-10T08:40:45Z</dcterms:modified>
  <cp:revision>465</cp:revision>
  <dc:subject/>
  <dc:title>Слайд 1</dc:title>
</cp:coreProperties>
</file>