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31115-DD3A-4098-A66F-BF4C12CE59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ED27-E812-4043-8C4B-6AAB866088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7ECA2-C7A1-4B73-A1CE-D03E36F4A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93A4D-C688-4EDA-B700-9089E35BB3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9E429-65EB-4F0A-8B4A-7128694C85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31B6-81AE-4749-88C8-61769AFE83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5662-463D-47B3-B611-C4363C1CC5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9F408-39C8-4B8E-873B-E5850F993C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A3A0B-DC07-4C2A-B80A-FE69B41D902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4FA2B-D97F-4701-AB70-2B08F9C809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3CAE3-490C-49D8-86F3-134F56A4E0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3F559-5050-4D25-99E1-B127C5D964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A521-409F-43D1-A25B-7427977E8C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33F5A-01E2-49F8-86BB-3DC80E8620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99A6E-36E5-4DE8-9595-5FD76584E6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6B3E-04D0-4A30-8551-AFB948566B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AF912-93F4-4A4A-9973-7E0650BE6C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676B-9930-4CBE-9DCA-8F2359F71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E9BC-975C-4950-A3ED-AD5C09FE1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F209-94DF-41FF-B0C5-CFCE15630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4E69-CAE5-4076-B536-EA32A0730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DED3-E3E6-4C9B-B00F-B7B57A94B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CD2C-DEBC-47BD-8A5D-F71D37F1B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33A2-15B8-47E3-98BC-8C4F84B0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1560-EE46-4F81-AF4F-56B24BCCC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D4FB-3B0A-41E5-8AA9-1CCCB8CD5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0DBF-AE13-470C-860C-8C42C16E9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37E9-04C2-4DDC-8B48-899E90180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5306-D941-4CD1-A5F2-D289849E0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CC75B8-5F2E-4596-98BC-DAAB89D06C81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2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22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2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5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7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8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2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517,4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37432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6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7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 Муниципальная программ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  муниципальной службы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Муниципальная программ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 транспортной системы муниципального образования «Ледовский сельсовет» Советского района Курской област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517,4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9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2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2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86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25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239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2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5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6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7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2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806,2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2840"/>
            <a:ext cx="83232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3-05-04T14:10:30Z</dcterms:modified>
  <cp:revision>469</cp:revision>
  <dc:subject/>
  <dc:title>Слайд 1</dc:title>
</cp:coreProperties>
</file>