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5ACD-732B-4C3D-8D93-EDE7FC3D41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902A0-749A-45B3-A836-31871B0AF87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6BD09-C57B-417E-BC71-F10FA1A19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1635-A852-47E8-9BCC-97AA32A33A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7817A-C896-49DB-A586-72410F6EF4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D7C79-8BB3-4A9C-A77F-5A9BE921973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D041-AA7D-4E88-A874-FDE5969D4C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ECDB-EAC8-45BD-AA82-A27AC0FDF5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51B5-024E-41C2-9D2C-E5F755BB2A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CB3DF-FD7B-4860-82EA-221B16E295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794ED-BD05-4DDE-AE0A-80D56FD497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2F990-0849-4B60-A4F1-09E022D4C0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3D617-9258-486B-B997-6F234E6FDF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3309-131C-42C4-B48F-319238B003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F9D3B-1059-4686-993A-1D2BC5B3CC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A8BA0-45E4-4277-90FE-50A30A5820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C4668-C4AF-435B-953F-BB73818CDD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0FFF-6CBD-473F-9BAD-D96E502DB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8037-2671-432B-ABE9-6FF6A6B5E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6AB9-07DD-4D53-B949-CA388CE3D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F5D8-3C59-4D04-9092-B10E54755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C0C2-605A-4A12-9BA0-30799BA62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CC00-F544-48D4-8A91-A60F49EEC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603B-5ABA-4409-B528-0631FE65D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323C-9A11-453F-BD2B-A6990AB4C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85DC-6801-4F6D-B4FC-8E8E13D48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B708-8EDE-458C-AEC7-6F8426606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7315-D985-4A4F-8F88-7BF8D7A03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46FB-83B4-4E0A-932F-A3DA41ABB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71F21C-7D77-4F62-B8A5-C155B42ECE0C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3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 Об исполнении  бюджета  Ледовского сельсовета Советского района  Курской области за 2023 год 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3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,9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3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09760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22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5104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4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79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3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3944,8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3728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3944,8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8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3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3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701,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12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3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22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7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3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 127,0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5-02-14T12:58:26Z</dcterms:modified>
  <cp:revision>466</cp:revision>
  <dc:subject/>
  <dc:title>Слайд 1</dc:title>
</cp:coreProperties>
</file>