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4D9C6-A79F-4066-809A-BE35DBCF1A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544F0-AF9C-476C-8131-8840E3042A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07730-339D-46BD-BD5B-4D0373732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1067E-E0DA-4F17-9618-96E7F9BD95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158A8-0FEE-4AA8-B880-AB130CD24D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394E1-0088-46B1-AE5A-FC7FA1094B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8653F-63C1-45CA-BDF9-1BFFD15F54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A170F-112B-4FAE-9065-9B1251A63F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83659-1053-4E9E-9D1D-13B91EDBE9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45DAD-01F7-4823-8ACD-9FF4998A11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1159A-64A6-4A5B-9B81-23175F5682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BB128-8F9D-4E18-989D-C1649EE3A4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66B62-A4C2-4E1B-8030-7349975B529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34A97-38AB-402D-A98B-14704FABD6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935F2-F0CE-4DDA-9E99-CF09445F40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FF9F8-2C3F-4A35-9234-0111CBE67C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12778-BD3A-4739-83D1-8B09DBA7DFD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562C-9F4F-465D-8C5D-284676D9E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4DFE-81D4-4326-BD08-69D725950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7A43-6DAC-4460-927E-F20072F1F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B33E-4354-43A3-B818-600E703FBA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A535-CFCA-4A55-A3CB-83DD083AB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B726-CCC8-4C17-9051-25B83AFD5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B024-B039-4482-B59A-8EEF30945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995D-E1FE-4040-8005-DD6A485E2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E7D7-F861-4AC6-A539-325B0B595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DEED-51B8-47D2-B009-A5FFFB435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F383-0BCF-4A2D-A8A9-2D6A790EB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6294-781F-48A9-8E8F-5CB3C36B0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AD9188-AED9-4B8D-9D51-4AD10993274F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4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5.12.20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3 года № 22  «О бюджете  Ледовского сельсовета Советского района  Курской области на 2024 год и  плановый период 2025 и 2026 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4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5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0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4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1645,3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1773360"/>
          <a:ext cx="8232840" cy="372888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Развитие муниципальной службы  в муниципальном образовании Ледовского сельсовета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1645,3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00040" y="2071800"/>
          <a:ext cx="8232840" cy="400212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63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в муниципальном образован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Ледовский сель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24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н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4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55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55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24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5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9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4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,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,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5-02-14T14:14:13Z</dcterms:modified>
  <cp:revision>465</cp:revision>
  <dc:subject/>
  <dc:title>Слайд 1</dc:title>
</cp:coreProperties>
</file>